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1E29-7BE5-4CFC-8ED5-4B1D2189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061D-235F-4E54-8353-F88151E12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D8CD-A155-42F5-8693-A64F7D162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B4E3-D801-43D7-916B-F9DCDC25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88B-9BD0-4AF5-A786-A8AF8CE3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9F53-9482-496F-86BF-CA5AC010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3C18-C67A-49F4-9BF1-AAC2301E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1916-CEF3-4B5D-8B8D-A36389F6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32AE-2974-47D2-882A-6698F102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E2CD-0D72-4984-870A-9712B197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582-F093-434E-B1E3-F664BC7A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1230-5173-48F5-9CC9-0F288B31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63A6-94A4-4DDB-A340-F1ADFE73D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Qualit&#224;%20servizio%20culturale.ppt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BEP2.xls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4920" y="228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rketing: nuovi concet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121932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È u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processo di scambio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ra coloro ch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desiderano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un prodotto o un servizio e coloro che il prodotto e il servizio sono i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ff9933"/>
                </a:solidFill>
                <a:uFillTx/>
                <a:latin typeface="Times New Roman"/>
              </a:rPr>
              <a:t>grado di offrir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080" y="43434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N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imp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li obiettivi m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verific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li obiettivi che una organizzazione si p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7772400" y="1981080"/>
            <a:ext cx="1219320" cy="3505320"/>
          </a:xfrm>
          <a:prstGeom prst="rect">
            <a:avLst/>
          </a:prstGeom>
          <a:solidFill>
            <a:srgbClr val="b2b2b2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876920" y="1981080"/>
            <a:ext cx="2895480" cy="3505320"/>
          </a:xfrm>
          <a:prstGeom prst="rect">
            <a:avLst/>
          </a:prstGeom>
          <a:solidFill>
            <a:srgbClr val="b2b2b2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666880" y="1981080"/>
            <a:ext cx="2210040" cy="3505320"/>
          </a:xfrm>
          <a:prstGeom prst="rect">
            <a:avLst/>
          </a:prstGeom>
          <a:solidFill>
            <a:srgbClr val="b2b2b2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0" y="838080"/>
          <a:ext cx="9144000" cy="5970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38080"/>
                    <a:ext cx="914400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>
            <a:off x="1523880" y="1981080"/>
            <a:ext cx="1143000" cy="3505320"/>
          </a:xfrm>
          <a:prstGeom prst="rect">
            <a:avLst/>
          </a:prstGeom>
          <a:solidFill>
            <a:srgbClr val="b2b2b2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3880" y="2666880"/>
            <a:ext cx="1143000" cy="2895840"/>
          </a:xfrm>
          <a:custGeom>
            <a:avLst/>
            <a:gdLst/>
            <a:ahLst/>
            <a:rect l="l" t="t" r="r" b="b"/>
            <a:pathLst>
              <a:path w="720" h="1824">
                <a:moveTo>
                  <a:pt x="0" y="1824"/>
                </a:moveTo>
                <a:cubicBezTo>
                  <a:pt x="36" y="1660"/>
                  <a:pt x="72" y="1496"/>
                  <a:pt x="144" y="1248"/>
                </a:cubicBezTo>
                <a:cubicBezTo>
                  <a:pt x="216" y="1000"/>
                  <a:pt x="336" y="544"/>
                  <a:pt x="432" y="336"/>
                </a:cubicBezTo>
                <a:cubicBezTo>
                  <a:pt x="528" y="128"/>
                  <a:pt x="624" y="64"/>
                  <a:pt x="72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6200000">
            <a:off x="1677600" y="44942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ovent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666880" y="2489040"/>
            <a:ext cx="2210040" cy="177840"/>
          </a:xfrm>
          <a:custGeom>
            <a:avLst/>
            <a:gdLst/>
            <a:ahLst/>
            <a:rect l="l" t="t" r="r" b="b"/>
            <a:pathLst>
              <a:path w="1392" h="112">
                <a:moveTo>
                  <a:pt x="0" y="112"/>
                </a:moveTo>
                <a:cubicBezTo>
                  <a:pt x="32" y="96"/>
                  <a:pt x="64" y="80"/>
                  <a:pt x="144" y="64"/>
                </a:cubicBezTo>
                <a:cubicBezTo>
                  <a:pt x="224" y="48"/>
                  <a:pt x="312" y="24"/>
                  <a:pt x="480" y="16"/>
                </a:cubicBezTo>
                <a:cubicBezTo>
                  <a:pt x="648" y="8"/>
                  <a:pt x="1000" y="0"/>
                  <a:pt x="1152" y="16"/>
                </a:cubicBezTo>
                <a:cubicBezTo>
                  <a:pt x="1304" y="32"/>
                  <a:pt x="1348" y="72"/>
                  <a:pt x="1392" y="112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876920" y="2666880"/>
            <a:ext cx="2895480" cy="1295640"/>
          </a:xfrm>
          <a:custGeom>
            <a:avLst/>
            <a:gdLst/>
            <a:ahLst/>
            <a:rect l="l" t="t" r="r" b="b"/>
            <a:pathLst>
              <a:path w="1824" h="816">
                <a:moveTo>
                  <a:pt x="0" y="0"/>
                </a:moveTo>
                <a:cubicBezTo>
                  <a:pt x="28" y="56"/>
                  <a:pt x="56" y="112"/>
                  <a:pt x="96" y="144"/>
                </a:cubicBezTo>
                <a:cubicBezTo>
                  <a:pt x="136" y="176"/>
                  <a:pt x="176" y="192"/>
                  <a:pt x="240" y="192"/>
                </a:cubicBezTo>
                <a:cubicBezTo>
                  <a:pt x="304" y="192"/>
                  <a:pt x="400" y="152"/>
                  <a:pt x="480" y="144"/>
                </a:cubicBezTo>
                <a:cubicBezTo>
                  <a:pt x="560" y="136"/>
                  <a:pt x="656" y="128"/>
                  <a:pt x="720" y="144"/>
                </a:cubicBezTo>
                <a:cubicBezTo>
                  <a:pt x="784" y="160"/>
                  <a:pt x="808" y="176"/>
                  <a:pt x="864" y="240"/>
                </a:cubicBezTo>
                <a:cubicBezTo>
                  <a:pt x="920" y="304"/>
                  <a:pt x="992" y="472"/>
                  <a:pt x="1056" y="528"/>
                </a:cubicBezTo>
                <a:cubicBezTo>
                  <a:pt x="1120" y="584"/>
                  <a:pt x="1184" y="576"/>
                  <a:pt x="1248" y="576"/>
                </a:cubicBezTo>
                <a:cubicBezTo>
                  <a:pt x="1312" y="576"/>
                  <a:pt x="1360" y="520"/>
                  <a:pt x="1440" y="528"/>
                </a:cubicBezTo>
                <a:cubicBezTo>
                  <a:pt x="1520" y="536"/>
                  <a:pt x="1664" y="576"/>
                  <a:pt x="1728" y="624"/>
                </a:cubicBezTo>
                <a:cubicBezTo>
                  <a:pt x="1792" y="672"/>
                  <a:pt x="1808" y="744"/>
                  <a:pt x="1824" y="816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772400" y="3962520"/>
            <a:ext cx="685800" cy="1371600"/>
          </a:xfrm>
          <a:custGeom>
            <a:avLst/>
            <a:gdLst/>
            <a:ahLst/>
            <a:rect l="l" t="t" r="r" b="b"/>
            <a:pathLst>
              <a:path w="432" h="864">
                <a:moveTo>
                  <a:pt x="0" y="0"/>
                </a:moveTo>
                <a:cubicBezTo>
                  <a:pt x="32" y="184"/>
                  <a:pt x="64" y="368"/>
                  <a:pt x="96" y="480"/>
                </a:cubicBezTo>
                <a:cubicBezTo>
                  <a:pt x="128" y="592"/>
                  <a:pt x="136" y="608"/>
                  <a:pt x="192" y="672"/>
                </a:cubicBezTo>
                <a:cubicBezTo>
                  <a:pt x="248" y="736"/>
                  <a:pt x="340" y="800"/>
                  <a:pt x="432" y="864"/>
                </a:cubicBezTo>
              </a:path>
            </a:pathLst>
          </a:custGeom>
          <a:noFill/>
          <a:ln w="572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rot="16200000">
            <a:off x="3811320" y="44942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ur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16200000">
            <a:off x="6706800" y="44942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cchia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6200000">
            <a:off x="7926120" y="44942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l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523880" y="1981080"/>
            <a:ext cx="114300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Esist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666880" y="1981080"/>
            <a:ext cx="221004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iconoscibil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76920" y="1981080"/>
            <a:ext cx="289548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Mi rinnov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7772400" y="1981080"/>
            <a:ext cx="1219320" cy="685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6360" y="450720"/>
            <a:ext cx="9107640" cy="640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28600" y="7621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enni sulla realizzazione di un messaggio pubblicitar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04920" y="1676520"/>
            <a:ext cx="86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ELEMENTI VIS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Visual - descrizione generale  della tecnica di immagine usata (fotografia, disegno, ec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ack-shot - descrizione dell’immag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Logotype - caratterizzazione grafica della ragione so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Trade Mark - marchio (simbolo visivo di impresa o prodot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ELEMENTI TESTU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Head line - titolo di richia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Body Copy - t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ay off - frase caratterizzante il prodotto o l’azienda posta a fondo pag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Spagna" descr=""/>
          <p:cNvPicPr/>
          <p:nvPr/>
        </p:nvPicPr>
        <p:blipFill>
          <a:blip r:embed="rId2"/>
          <a:stretch/>
        </p:blipFill>
        <p:spPr>
          <a:xfrm>
            <a:off x="2133720" y="533520"/>
            <a:ext cx="4935240" cy="6324480"/>
          </a:xfrm>
          <a:prstGeom prst="rect">
            <a:avLst/>
          </a:prstGeom>
          <a:ln w="0">
            <a:noFill/>
          </a:ln>
        </p:spPr>
      </p:pic>
      <p:grpSp>
        <p:nvGrpSpPr>
          <p:cNvPr id="537" name=""/>
          <p:cNvGrpSpPr/>
          <p:nvPr/>
        </p:nvGrpSpPr>
        <p:grpSpPr>
          <a:xfrm>
            <a:off x="4267080" y="5257800"/>
            <a:ext cx="4724640" cy="1409760"/>
            <a:chOff x="4267080" y="5257800"/>
            <a:chExt cx="4724640" cy="1409760"/>
          </a:xfrm>
        </p:grpSpPr>
        <p:sp>
          <p:nvSpPr>
            <p:cNvPr id="538" name=""/>
            <p:cNvSpPr/>
            <p:nvPr/>
          </p:nvSpPr>
          <p:spPr>
            <a:xfrm>
              <a:off x="7162920" y="5257800"/>
              <a:ext cx="1828800" cy="520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imes New Roman"/>
                </a:rPr>
                <a:t>Logo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267080" y="6172200"/>
              <a:ext cx="762120" cy="380880"/>
            </a:xfrm>
            <a:prstGeom prst="ellipse">
              <a:avLst/>
            </a:prstGeom>
            <a:solidFill>
              <a:srgbClr val="ff9999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029200" y="5791320"/>
              <a:ext cx="3048120" cy="876240"/>
            </a:xfrm>
            <a:custGeom>
              <a:avLst/>
              <a:gdLst/>
              <a:ahLst/>
              <a:rect l="l" t="t" r="r" b="b"/>
              <a:pathLst>
                <a:path w="1920" h="552">
                  <a:moveTo>
                    <a:pt x="0" y="432"/>
                  </a:moveTo>
                  <a:cubicBezTo>
                    <a:pt x="300" y="472"/>
                    <a:pt x="600" y="512"/>
                    <a:pt x="864" y="528"/>
                  </a:cubicBezTo>
                  <a:cubicBezTo>
                    <a:pt x="1128" y="544"/>
                    <a:pt x="1432" y="552"/>
                    <a:pt x="1584" y="528"/>
                  </a:cubicBezTo>
                  <a:cubicBezTo>
                    <a:pt x="1736" y="504"/>
                    <a:pt x="1720" y="472"/>
                    <a:pt x="1776" y="384"/>
                  </a:cubicBezTo>
                  <a:cubicBezTo>
                    <a:pt x="1832" y="296"/>
                    <a:pt x="1876" y="148"/>
                    <a:pt x="192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76320" y="4952880"/>
            <a:ext cx="4952880" cy="1219320"/>
            <a:chOff x="76320" y="4952880"/>
            <a:chExt cx="4952880" cy="1219320"/>
          </a:xfrm>
        </p:grpSpPr>
        <p:sp>
          <p:nvSpPr>
            <p:cNvPr id="542" name=""/>
            <p:cNvSpPr/>
            <p:nvPr/>
          </p:nvSpPr>
          <p:spPr>
            <a:xfrm>
              <a:off x="4267080" y="5867280"/>
              <a:ext cx="762120" cy="30492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320" y="4952880"/>
              <a:ext cx="220968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Trade ma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77760" y="5410080"/>
              <a:ext cx="3365640" cy="609840"/>
            </a:xfrm>
            <a:custGeom>
              <a:avLst/>
              <a:gdLst/>
              <a:ahLst/>
              <a:rect l="l" t="t" r="r" b="b"/>
              <a:pathLst>
                <a:path w="2120" h="432">
                  <a:moveTo>
                    <a:pt x="56" y="0"/>
                  </a:moveTo>
                  <a:cubicBezTo>
                    <a:pt x="28" y="132"/>
                    <a:pt x="0" y="264"/>
                    <a:pt x="344" y="336"/>
                  </a:cubicBezTo>
                  <a:cubicBezTo>
                    <a:pt x="688" y="408"/>
                    <a:pt x="1404" y="420"/>
                    <a:pt x="2120" y="432"/>
                  </a:cubicBezTo>
                </a:path>
              </a:pathLst>
            </a:custGeom>
            <a:noFill/>
            <a:ln w="572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228600" y="1981080"/>
            <a:ext cx="6781680" cy="3124440"/>
            <a:chOff x="228600" y="1981080"/>
            <a:chExt cx="6781680" cy="3124440"/>
          </a:xfrm>
        </p:grpSpPr>
        <p:sp>
          <p:nvSpPr>
            <p:cNvPr id="546" name=""/>
            <p:cNvSpPr/>
            <p:nvPr/>
          </p:nvSpPr>
          <p:spPr>
            <a:xfrm>
              <a:off x="228600" y="1981080"/>
              <a:ext cx="175248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Head 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057400" y="3657600"/>
              <a:ext cx="4952880" cy="1447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977760" y="2514600"/>
              <a:ext cx="1079640" cy="1930320"/>
            </a:xfrm>
            <a:custGeom>
              <a:avLst/>
              <a:gdLst/>
              <a:ahLst/>
              <a:rect l="l" t="t" r="r" b="b"/>
              <a:pathLst>
                <a:path w="680" h="1216">
                  <a:moveTo>
                    <a:pt x="8" y="0"/>
                  </a:moveTo>
                  <a:cubicBezTo>
                    <a:pt x="8" y="188"/>
                    <a:pt x="8" y="376"/>
                    <a:pt x="8" y="480"/>
                  </a:cubicBezTo>
                  <a:cubicBezTo>
                    <a:pt x="8" y="584"/>
                    <a:pt x="0" y="552"/>
                    <a:pt x="8" y="624"/>
                  </a:cubicBezTo>
                  <a:cubicBezTo>
                    <a:pt x="16" y="696"/>
                    <a:pt x="16" y="832"/>
                    <a:pt x="56" y="912"/>
                  </a:cubicBezTo>
                  <a:cubicBezTo>
                    <a:pt x="96" y="992"/>
                    <a:pt x="160" y="1056"/>
                    <a:pt x="248" y="1104"/>
                  </a:cubicBezTo>
                  <a:cubicBezTo>
                    <a:pt x="336" y="1152"/>
                    <a:pt x="512" y="1184"/>
                    <a:pt x="584" y="1200"/>
                  </a:cubicBezTo>
                  <a:cubicBezTo>
                    <a:pt x="656" y="1216"/>
                    <a:pt x="668" y="1208"/>
                    <a:pt x="680" y="12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286000" y="2057400"/>
            <a:ext cx="6705720" cy="3962520"/>
            <a:chOff x="2286000" y="2057400"/>
            <a:chExt cx="6705720" cy="3962520"/>
          </a:xfrm>
        </p:grpSpPr>
        <p:sp>
          <p:nvSpPr>
            <p:cNvPr id="550" name=""/>
            <p:cNvSpPr/>
            <p:nvPr/>
          </p:nvSpPr>
          <p:spPr>
            <a:xfrm>
              <a:off x="7315200" y="2057400"/>
              <a:ext cx="167652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339933"/>
                  </a:solidFill>
                  <a:latin typeface="Times New Roman"/>
                </a:rPr>
                <a:t>Body cop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286000" y="4952880"/>
              <a:ext cx="4952880" cy="10670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58000" y="2514600"/>
              <a:ext cx="1600200" cy="2666880"/>
            </a:xfrm>
            <a:custGeom>
              <a:avLst/>
              <a:gdLst/>
              <a:ahLst/>
              <a:rect l="l" t="t" r="r" b="b"/>
              <a:pathLst>
                <a:path w="1008" h="1680">
                  <a:moveTo>
                    <a:pt x="0" y="1680"/>
                  </a:moveTo>
                  <a:cubicBezTo>
                    <a:pt x="212" y="1664"/>
                    <a:pt x="424" y="1648"/>
                    <a:pt x="576" y="1488"/>
                  </a:cubicBezTo>
                  <a:cubicBezTo>
                    <a:pt x="728" y="1328"/>
                    <a:pt x="840" y="968"/>
                    <a:pt x="912" y="720"/>
                  </a:cubicBezTo>
                  <a:cubicBezTo>
                    <a:pt x="984" y="472"/>
                    <a:pt x="996" y="236"/>
                    <a:pt x="1008" y="0"/>
                  </a:cubicBezTo>
                </a:path>
              </a:pathLst>
            </a:custGeom>
            <a:noFill/>
            <a:ln w="3816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1872360" y="-509760"/>
            <a:ext cx="7119360" cy="5250240"/>
            <a:chOff x="1872360" y="-509760"/>
            <a:chExt cx="7119360" cy="5250240"/>
          </a:xfrm>
        </p:grpSpPr>
        <p:sp>
          <p:nvSpPr>
            <p:cNvPr id="554" name=""/>
            <p:cNvSpPr/>
            <p:nvPr/>
          </p:nvSpPr>
          <p:spPr>
            <a:xfrm>
              <a:off x="7315200" y="609480"/>
              <a:ext cx="167652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3333cc"/>
                  </a:solidFill>
                  <a:latin typeface="Times New Roman"/>
                </a:rPr>
                <a:t>Pack sho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1797000">
              <a:off x="2437920" y="380880"/>
              <a:ext cx="4496040" cy="3468960"/>
            </a:xfrm>
            <a:prstGeom prst="ellipse">
              <a:avLst/>
            </a:prstGeom>
            <a:solidFill>
              <a:srgbClr val="66ccff">
                <a:alpha val="50000"/>
              </a:srgbClr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095880" y="685800"/>
              <a:ext cx="1219320" cy="304920"/>
            </a:xfrm>
            <a:custGeom>
              <a:avLst/>
              <a:gdLst/>
              <a:ahLst/>
              <a:rect l="l" t="t" r="r" b="b"/>
              <a:pathLst>
                <a:path w="768" h="192">
                  <a:moveTo>
                    <a:pt x="0" y="192"/>
                  </a:moveTo>
                  <a:cubicBezTo>
                    <a:pt x="56" y="136"/>
                    <a:pt x="112" y="80"/>
                    <a:pt x="240" y="48"/>
                  </a:cubicBezTo>
                  <a:cubicBezTo>
                    <a:pt x="368" y="16"/>
                    <a:pt x="568" y="8"/>
                    <a:pt x="768" y="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8" name="Grecia" descr=""/>
          <p:cNvPicPr/>
          <p:nvPr/>
        </p:nvPicPr>
        <p:blipFill>
          <a:blip r:embed="rId2"/>
          <a:stretch/>
        </p:blipFill>
        <p:spPr>
          <a:xfrm>
            <a:off x="2000160" y="457200"/>
            <a:ext cx="5083200" cy="6324480"/>
          </a:xfrm>
          <a:prstGeom prst="rect">
            <a:avLst/>
          </a:prstGeom>
          <a:ln w="0">
            <a:noFill/>
          </a:ln>
        </p:spPr>
      </p:pic>
      <p:grpSp>
        <p:nvGrpSpPr>
          <p:cNvPr id="559" name=""/>
          <p:cNvGrpSpPr/>
          <p:nvPr/>
        </p:nvGrpSpPr>
        <p:grpSpPr>
          <a:xfrm>
            <a:off x="76320" y="762120"/>
            <a:ext cx="4190760" cy="761760"/>
            <a:chOff x="76320" y="762120"/>
            <a:chExt cx="4190760" cy="761760"/>
          </a:xfrm>
        </p:grpSpPr>
        <p:sp>
          <p:nvSpPr>
            <p:cNvPr id="560" name=""/>
            <p:cNvSpPr/>
            <p:nvPr/>
          </p:nvSpPr>
          <p:spPr>
            <a:xfrm>
              <a:off x="76320" y="762120"/>
              <a:ext cx="1828800" cy="5205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ff0000"/>
                  </a:solidFill>
                  <a:latin typeface="Times New Roman"/>
                </a:rPr>
                <a:t>Logotyp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09680" y="762120"/>
              <a:ext cx="2057400" cy="761760"/>
            </a:xfrm>
            <a:prstGeom prst="ellipse">
              <a:avLst/>
            </a:prstGeom>
            <a:solidFill>
              <a:srgbClr val="ff9999">
                <a:alpha val="50000"/>
              </a:srgbClr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905120" y="1066680"/>
              <a:ext cx="30456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76320" y="2438280"/>
            <a:ext cx="7162560" cy="3581640"/>
            <a:chOff x="76320" y="2438280"/>
            <a:chExt cx="7162560" cy="3581640"/>
          </a:xfrm>
        </p:grpSpPr>
        <p:sp>
          <p:nvSpPr>
            <p:cNvPr id="564" name=""/>
            <p:cNvSpPr/>
            <p:nvPr/>
          </p:nvSpPr>
          <p:spPr>
            <a:xfrm>
              <a:off x="76320" y="2438280"/>
              <a:ext cx="182880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339933"/>
                  </a:solidFill>
                  <a:latin typeface="Times New Roman"/>
                </a:rPr>
                <a:t>Body cop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86000" y="4952880"/>
              <a:ext cx="4952880" cy="10670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381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5120" y="2743200"/>
              <a:ext cx="1752480" cy="2209680"/>
            </a:xfrm>
            <a:prstGeom prst="line">
              <a:avLst/>
            </a:prstGeom>
            <a:ln w="3816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6320" y="1371600"/>
            <a:ext cx="6933960" cy="3581280"/>
            <a:chOff x="76320" y="1371600"/>
            <a:chExt cx="6933960" cy="3581280"/>
          </a:xfrm>
        </p:grpSpPr>
        <p:sp>
          <p:nvSpPr>
            <p:cNvPr id="568" name=""/>
            <p:cNvSpPr/>
            <p:nvPr/>
          </p:nvSpPr>
          <p:spPr>
            <a:xfrm>
              <a:off x="76320" y="1371600"/>
              <a:ext cx="182880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Head 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57400" y="3505320"/>
              <a:ext cx="4952880" cy="144756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905120" y="1600200"/>
              <a:ext cx="182880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76320" y="1905120"/>
            <a:ext cx="6858000" cy="4724280"/>
            <a:chOff x="76320" y="1905120"/>
            <a:chExt cx="6858000" cy="4724280"/>
          </a:xfrm>
        </p:grpSpPr>
        <p:sp>
          <p:nvSpPr>
            <p:cNvPr id="572" name=""/>
            <p:cNvSpPr/>
            <p:nvPr/>
          </p:nvSpPr>
          <p:spPr>
            <a:xfrm>
              <a:off x="5638680" y="6095880"/>
              <a:ext cx="1295640" cy="53352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572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6320" y="1905120"/>
              <a:ext cx="182880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Trade ma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05120" y="2209680"/>
              <a:ext cx="4114800" cy="3886200"/>
            </a:xfrm>
            <a:prstGeom prst="line">
              <a:avLst/>
            </a:prstGeom>
            <a:ln w="3816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76320" y="2971800"/>
            <a:ext cx="3733560" cy="3657600"/>
            <a:chOff x="76320" y="2971800"/>
            <a:chExt cx="3733560" cy="3657600"/>
          </a:xfrm>
        </p:grpSpPr>
        <p:sp>
          <p:nvSpPr>
            <p:cNvPr id="576" name=""/>
            <p:cNvSpPr/>
            <p:nvPr/>
          </p:nvSpPr>
          <p:spPr>
            <a:xfrm>
              <a:off x="76320" y="2971800"/>
              <a:ext cx="182880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ay 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219320" y="3429000"/>
              <a:ext cx="2590560" cy="3200400"/>
            </a:xfrm>
            <a:custGeom>
              <a:avLst/>
              <a:gdLst/>
              <a:ahLst/>
              <a:rect l="l" t="t" r="r" b="b"/>
              <a:pathLst>
                <a:path w="1632" h="2016">
                  <a:moveTo>
                    <a:pt x="0" y="0"/>
                  </a:moveTo>
                  <a:lnTo>
                    <a:pt x="0" y="2016"/>
                  </a:lnTo>
                  <a:lnTo>
                    <a:pt x="1632" y="201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676520" y="25956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ve essere v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676520" y="32050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ve essere le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676520" y="3809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ve essere ritenuto credib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1676520" y="44244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ve essere ricord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676520" y="50338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ve provocare una 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09480" y="10666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Times New Roman"/>
              </a:rPr>
              <a:t>Secondo Starch un annuncio per essere effica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4920" y="685800"/>
            <a:ext cx="86104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La promo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promozione consiste nel mettere in atto quelle azioni destinate a spingere il consumatore verso il prodotto, a spingerlo al consu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 tipico esempio di promozione sono le campagne di offerta tre al prezzo di due o la prova prodot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 promozioni possono essere destinate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800" indent="-182520" algn="just">
              <a:lnSpc>
                <a:spcPct val="13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za vend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800" indent="-18252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medi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800" indent="-18252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umatore fi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53352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Le pubbliche rel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o iniziative di livello “interpersonale” tese a creare, mantenere, ristabilire un atteggiamento di interesse, simpatia, consenso nei confronti dell’impresa stes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sono essere rivolte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18396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z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18396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ter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18396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sumato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1839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za vend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 mezzi utilizzati per le azioni di pubbliche relazioni so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8600" y="4876920"/>
            <a:ext cx="388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39760" indent="-22536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erenza stam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536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uni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536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terv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53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tizi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72000" y="49528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139760" indent="-22536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ollett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536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iodici societa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9760" indent="-22536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onsorizz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Distrib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28600" y="762120"/>
            <a:ext cx="876312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La distrib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Ultimo elemento del marketing mix riguarda la decisione dei canali da utilizzare nella vendita del servizio, la loro distribuzione territoriale, definire un eventuale settore commerciale destinato a fare promuovere il prodotto presso i vendito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I canali commerciali si definiscono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brevi” se vi è un contatto diretto tra cliente e produtt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medi” se vi è un solo passaggio (produttore - dettagliante - clien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lunghi” se si passa attraverso un grossista (produttore - grossista - dettagliante - clien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600" y="167652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</a:rPr>
              <a:t>Caratteristiche del lavoro Marketing Oriented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12408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Utilizzo di indagini e ricer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Sperimentazione / Innovazione / Evoluzione per tentati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380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Times New Roman"/>
              </a:rPr>
              <a:t>Il marketing è un processo continuato di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1523880"/>
            <a:ext cx="5181840" cy="4419720"/>
          </a:xfrm>
          <a:custGeom>
            <a:avLst/>
            <a:gdLst/>
            <a:ahLst/>
            <a:rect l="l" t="t" r="r" b="b"/>
            <a:pathLst>
              <a:path w="3264" h="2784">
                <a:moveTo>
                  <a:pt x="1488" y="288"/>
                </a:moveTo>
                <a:cubicBezTo>
                  <a:pt x="2328" y="536"/>
                  <a:pt x="3168" y="784"/>
                  <a:pt x="3216" y="1200"/>
                </a:cubicBezTo>
                <a:cubicBezTo>
                  <a:pt x="3264" y="1616"/>
                  <a:pt x="2312" y="2784"/>
                  <a:pt x="1776" y="2784"/>
                </a:cubicBezTo>
                <a:cubicBezTo>
                  <a:pt x="1240" y="2784"/>
                  <a:pt x="0" y="1664"/>
                  <a:pt x="0" y="1200"/>
                </a:cubicBezTo>
                <a:cubicBezTo>
                  <a:pt x="0" y="736"/>
                  <a:pt x="1480" y="200"/>
                  <a:pt x="1776" y="0"/>
                </a:cubicBezTo>
              </a:path>
            </a:pathLst>
          </a:custGeom>
          <a:noFill/>
          <a:ln w="76320">
            <a:solidFill>
              <a:srgbClr val="ffff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0600" y="1371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dag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79132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eriment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17524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nov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477120" y="46483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nali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24080" y="3429000"/>
            <a:ext cx="2971800" cy="2209680"/>
          </a:xfrm>
          <a:prstGeom prst="ellipse">
            <a:avLst/>
          </a:prstGeom>
          <a:solidFill>
            <a:srgbClr val="292929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04920"/>
            <a:ext cx="91440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vorare con i principi del Marketing vuol dire considerare tutti 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portatori d’interess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5334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li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2743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bblica amminist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403848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n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3429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inanzi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3623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41148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ipend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4120" y="4876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15000" y="42670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Forni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6095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polazione resid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3429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mministra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7621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l passaggio dall’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analis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la innovazione avviene attraverso la formulazione d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missione, obiettivi, traguard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 l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definizione di strategi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raggiunger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9718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finire una strategia signific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rogettare una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organizzazio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 u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insie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 caratteristiche delle leve del marke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72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a organizzazione efficace deve prevedere anche un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tinua e corretta anali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66760" y="203040"/>
            <a:ext cx="7632720" cy="6235920"/>
          </a:xfrm>
          <a:custGeom>
            <a:avLst/>
            <a:gdLst/>
            <a:ahLst/>
            <a:rect l="l" t="t" r="r" b="b"/>
            <a:pathLst>
              <a:path w="4808" h="3928">
                <a:moveTo>
                  <a:pt x="3480" y="3376"/>
                </a:moveTo>
                <a:cubicBezTo>
                  <a:pt x="3160" y="3432"/>
                  <a:pt x="2840" y="3488"/>
                  <a:pt x="2664" y="3472"/>
                </a:cubicBezTo>
                <a:cubicBezTo>
                  <a:pt x="2488" y="3456"/>
                  <a:pt x="2456" y="3360"/>
                  <a:pt x="2424" y="3280"/>
                </a:cubicBezTo>
                <a:cubicBezTo>
                  <a:pt x="2392" y="3200"/>
                  <a:pt x="2376" y="3072"/>
                  <a:pt x="2472" y="2992"/>
                </a:cubicBezTo>
                <a:cubicBezTo>
                  <a:pt x="2568" y="2912"/>
                  <a:pt x="2696" y="2808"/>
                  <a:pt x="3000" y="2800"/>
                </a:cubicBezTo>
                <a:cubicBezTo>
                  <a:pt x="3304" y="2792"/>
                  <a:pt x="4008" y="2880"/>
                  <a:pt x="4296" y="2944"/>
                </a:cubicBezTo>
                <a:cubicBezTo>
                  <a:pt x="4584" y="3008"/>
                  <a:pt x="4664" y="3104"/>
                  <a:pt x="4728" y="3184"/>
                </a:cubicBezTo>
                <a:cubicBezTo>
                  <a:pt x="4792" y="3264"/>
                  <a:pt x="4808" y="3352"/>
                  <a:pt x="4680" y="3424"/>
                </a:cubicBezTo>
                <a:cubicBezTo>
                  <a:pt x="4552" y="3496"/>
                  <a:pt x="4168" y="3592"/>
                  <a:pt x="3960" y="3616"/>
                </a:cubicBezTo>
                <a:cubicBezTo>
                  <a:pt x="3752" y="3640"/>
                  <a:pt x="3544" y="3600"/>
                  <a:pt x="3432" y="3568"/>
                </a:cubicBezTo>
                <a:cubicBezTo>
                  <a:pt x="3320" y="3536"/>
                  <a:pt x="3440" y="3376"/>
                  <a:pt x="3288" y="3424"/>
                </a:cubicBezTo>
                <a:cubicBezTo>
                  <a:pt x="3136" y="3472"/>
                  <a:pt x="2832" y="3792"/>
                  <a:pt x="2520" y="3856"/>
                </a:cubicBezTo>
                <a:cubicBezTo>
                  <a:pt x="2208" y="3920"/>
                  <a:pt x="1800" y="3928"/>
                  <a:pt x="1416" y="3808"/>
                </a:cubicBezTo>
                <a:cubicBezTo>
                  <a:pt x="1032" y="3688"/>
                  <a:pt x="432" y="3352"/>
                  <a:pt x="216" y="3136"/>
                </a:cubicBezTo>
                <a:cubicBezTo>
                  <a:pt x="0" y="2920"/>
                  <a:pt x="104" y="2856"/>
                  <a:pt x="120" y="2512"/>
                </a:cubicBezTo>
                <a:cubicBezTo>
                  <a:pt x="136" y="2168"/>
                  <a:pt x="168" y="1456"/>
                  <a:pt x="312" y="1072"/>
                </a:cubicBezTo>
                <a:cubicBezTo>
                  <a:pt x="456" y="688"/>
                  <a:pt x="688" y="384"/>
                  <a:pt x="984" y="208"/>
                </a:cubicBezTo>
                <a:cubicBezTo>
                  <a:pt x="1280" y="32"/>
                  <a:pt x="1792" y="32"/>
                  <a:pt x="2088" y="16"/>
                </a:cubicBezTo>
                <a:cubicBezTo>
                  <a:pt x="2384" y="0"/>
                  <a:pt x="2632" y="56"/>
                  <a:pt x="2760" y="112"/>
                </a:cubicBezTo>
                <a:cubicBezTo>
                  <a:pt x="2888" y="168"/>
                  <a:pt x="2872" y="260"/>
                  <a:pt x="2856" y="352"/>
                </a:cubicBezTo>
              </a:path>
            </a:pathLst>
          </a:custGeom>
          <a:noFill/>
          <a:ln w="57240">
            <a:solidFill>
              <a:srgbClr val="cc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1280" y="760320"/>
            <a:ext cx="907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er disegnare  ed attuare una strategia occorre definire le caratteristiche di quattro elementi, conosciuti anche come “leve del marketing”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23623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DOT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" y="3048120"/>
            <a:ext cx="275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Z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3733920"/>
            <a:ext cx="40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MUNIC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4572000"/>
            <a:ext cx="409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STRIBU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2203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Times New Roman"/>
              </a:rPr>
              <a:t>Leve del Mark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44956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Le quattro “P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1680" y="60948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ve sia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57150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ve vorremmo ess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9360" y="213372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sa dobbiamo 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0800" y="312408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Quando? Da chi?  In quanto temp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1116000"/>
            <a:ext cx="89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Anal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6172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Obiettivi strate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26668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Piano strate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41148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Piano 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333440"/>
            <a:ext cx="5410440" cy="4381560"/>
          </a:xfrm>
          <a:custGeom>
            <a:avLst/>
            <a:gdLst/>
            <a:ahLst/>
            <a:rect l="l" t="t" r="r" b="b"/>
            <a:pathLst>
              <a:path w="3408" h="2760">
                <a:moveTo>
                  <a:pt x="0" y="24"/>
                </a:moveTo>
                <a:cubicBezTo>
                  <a:pt x="636" y="12"/>
                  <a:pt x="1272" y="0"/>
                  <a:pt x="1776" y="168"/>
                </a:cubicBezTo>
                <a:cubicBezTo>
                  <a:pt x="2280" y="336"/>
                  <a:pt x="2752" y="600"/>
                  <a:pt x="3024" y="1032"/>
                </a:cubicBezTo>
                <a:cubicBezTo>
                  <a:pt x="3296" y="1464"/>
                  <a:pt x="3352" y="2112"/>
                  <a:pt x="3408" y="2760"/>
                </a:cubicBezTo>
              </a:path>
            </a:pathLst>
          </a:custGeom>
          <a:noFill/>
          <a:ln w="57240">
            <a:solidFill>
              <a:srgbClr val="cc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92203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Times New Roman"/>
              </a:rPr>
              <a:t>Il piano di marketing: percor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1828800"/>
            <a:ext cx="7848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99"/>
                </a:solidFill>
                <a:latin typeface="Times New Roman"/>
              </a:rPr>
              <a:t>Ambiente interno: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ire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Volont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243828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7621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lementi per una analisi di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2203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Times New Roman"/>
              </a:rPr>
              <a:t>Il piano di marketing: anali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905120"/>
            <a:ext cx="77724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Ambiente mercato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sitator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identi e comunità l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di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2438280"/>
            <a:ext cx="0" cy="16002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7621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lementi per una analisi di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2203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Times New Roman"/>
              </a:rPr>
              <a:t>Il piano di marketing: anali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52280" y="1905120"/>
            <a:ext cx="8991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Ambiente normativo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Legislazione v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gislazione in discu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ganizzazione amministrativa di set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rme sul volontari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rmativa sui finanziamenti pubbl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43200" y="2438280"/>
            <a:ext cx="0" cy="2133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7621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lementi per una analisi di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2203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Times New Roman"/>
              </a:rPr>
              <a:t>Il piano di marketing: anali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l tempo lib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066680"/>
            <a:ext cx="830592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99"/>
                </a:solidFill>
                <a:latin typeface="Times New Roman"/>
              </a:rPr>
              <a:t>Prima definizi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tempo non lavora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99"/>
                </a:solidFill>
                <a:latin typeface="Times New Roman"/>
              </a:rPr>
              <a:t>Però:</a:t>
            </a: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si scontra con impossibilità di individuare le attività obbligate (es.: fare la spesa, pagare le bollette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non considera aree di sovrapposizione (es.: spostamenti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non considera le nuove forme di lavor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accomuna occupati e disoccupati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62120" y="1905120"/>
            <a:ext cx="838188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Concorrenza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Deside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n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43200" y="2438280"/>
            <a:ext cx="0" cy="1447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7621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lementi per una analisi di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2203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Times New Roman"/>
              </a:rPr>
              <a:t>Il piano di marketing: anali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2280" y="7621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Al termine dell’analisi si avrà un quadro di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1752480"/>
            <a:ext cx="5105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nti di for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unti di debolez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pportun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inac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862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Times New Roman"/>
              </a:rPr>
              <a:t>O, in termini tecnic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541008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99"/>
                </a:solidFill>
                <a:latin typeface="Times New Roman"/>
              </a:rPr>
              <a:t>stren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666880" y="47242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472428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3300"/>
                </a:solidFill>
                <a:latin typeface="Courier New"/>
              </a:rPr>
              <a:t>analis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4724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4724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9880" y="472428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urier New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54100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99"/>
                </a:solidFill>
                <a:latin typeface="Times New Roman"/>
              </a:rPr>
              <a:t>weak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4100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99"/>
                </a:solidFill>
                <a:latin typeface="Times New Roman"/>
              </a:rPr>
              <a:t>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62520" y="54100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c99"/>
                </a:solidFill>
                <a:latin typeface="Times New Roman"/>
              </a:rPr>
              <a:t>thre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0"/>
            <a:ext cx="92203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Times New Roman"/>
              </a:rPr>
              <a:t>Il piano di marketing: anali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114300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Minac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320" y="190512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fida di una tenden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2590920"/>
            <a:ext cx="7238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Times New Roman"/>
              </a:rPr>
              <a:t>Deve ess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prev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pesata nella probabil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monito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imes New Roman"/>
              </a:rPr>
              <a:t>contromisur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92203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Times New Roman"/>
              </a:rPr>
              <a:t>Il piano di marketing: anali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76320" y="53352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imes New Roman"/>
              </a:rPr>
              <a:t>Opportunit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1447920"/>
            <a:ext cx="906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pazio utilizzabile per una azione in cui l’organizzazione può godere di vantaggi competi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3505320"/>
            <a:ext cx="72392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Times New Roman"/>
              </a:rPr>
              <a:t>Deve ess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vis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esata nella probabil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eparata l’organizz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l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2203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Times New Roman"/>
              </a:rPr>
              <a:t>Il piano di marketing: anali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320" y="609480"/>
            <a:ext cx="9067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Times New Roman"/>
              </a:rPr>
              <a:t>la pianificazione richiede la definizione di tre element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2209680"/>
            <a:ext cx="88390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Mission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scopo della nostra organ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Vision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iò che l’organizzazione vuole ess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Valori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orme fondamentali (cos’è corretto, giusto, desiderabil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2203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Times New Roman"/>
              </a:rPr>
              <a:t>Il piano di marketing: anali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685800"/>
            <a:ext cx="9144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Times New Roman"/>
              </a:rPr>
              <a:t>Per definire una missione si può rispondere alle doma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 cosa ci occupia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hi è il nostro visitatore / cl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s’ha valore per il nostro visitatore / cl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 cosa dovremmo occuparci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i cosa ci occuperem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2203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Times New Roman"/>
              </a:rPr>
              <a:t>Il piano di marketing: anali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1239840"/>
            <a:ext cx="90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99"/>
                </a:solidFill>
                <a:latin typeface="Times New Roman"/>
              </a:rPr>
              <a:t>La definizione della Missione deve essere basata sui mercati e non sul prodo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2280" y="2306520"/>
            <a:ext cx="8991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vremo allora definire il ruolo in diversi, possibili setto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rcato dell’edu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rcato del divertimento e dell’intratten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rcato di scambi interpersonali e soc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rcato della sal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rcato del lusso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92203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Times New Roman"/>
              </a:rPr>
              <a:t>Il piano di marketing: anali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l piano di marke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20400" y="203184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ve sia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2565360"/>
            <a:ext cx="4876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33"/>
                </a:solidFill>
                <a:latin typeface="Times New Roman"/>
              </a:rPr>
              <a:t>Anali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rofilo di prodott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nalisi di merc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segmentazione di merc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analisi dei clienti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cenario plann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nalisi dei concorr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68580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l “Piano di Marketing” è uno strumento di programmazione, organizzazione, cont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Le Ricerc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1219320"/>
            <a:ext cx="56386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esk (tavo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basate su dati e rilevazioni esistenti (es. ISTAT, CENSIS, Regione Toscana, ec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3049560"/>
            <a:ext cx="6324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Field (camp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rilevazioni dirette, effettuate dal soggetto o da istituti di ricerca specializz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Le Ricerche: fasi e strument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066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Rilev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05320" y="1143000"/>
            <a:ext cx="43434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terviste dirette e telefon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mpilazione di question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nalisi nei punti vend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nalisi di cataloghi e list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3581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Elabo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361476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etodologie statis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4572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Rappresen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4572000"/>
            <a:ext cx="48006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tab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d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grafici (istogrammi, curve, tor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l tempo lib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830592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conda definizione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mpo collegato alla discrezionalità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erò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on distingue tra tempo libero e ricreazione (rigenerazione di stati antecedent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Le Ricerche: alcune tipolog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2193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Indagini quantit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1905120"/>
            <a:ext cx="57909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Per la conoscenza di base del merca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3552840"/>
            <a:ext cx="8305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cc99"/>
                </a:solidFill>
                <a:latin typeface="Times New Roman"/>
              </a:rPr>
              <a:t>Strumen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Intervista personale, referendum postale , on-line, telefo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Rilevazioni periodiche (indice Nielsen, giuria dei consumato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Le Ricerche: alcune tipolog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2193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Indagini motivaz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2120" y="1905120"/>
            <a:ext cx="579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er la conoscenza approfondita delle ragioni di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048120"/>
            <a:ext cx="8305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cc99"/>
                </a:solidFill>
                <a:latin typeface="Times New Roman"/>
              </a:rPr>
              <a:t>Strumen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Intervista in profondità, colloquio clinico, discussione di gruppo, interviste non direttive, interviste semistrutturate, questionario proiettivo, questionario metr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504684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cc99"/>
                </a:solidFill>
                <a:latin typeface="Times New Roman"/>
              </a:rPr>
              <a:t>Fa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Pre - pilota, pilota, estens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Le Ricerche: alcune tipolog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2193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Indagini sui prodotti esist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75438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Prova prodotto (product t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Giudizio su caratteristiche specifiche di prodotto attraverso confron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trumenti: prova “cieca”. Isolare elementi, nessun marchio, ordine casu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Immagine di prodotto (product image/brand im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trumenti: associazioni verbali e n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Confe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Giudizio su contenimento, trasmissione immagine, attrazione, acqui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Le Ricerche: alcune tipolog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12193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Indagini sui prodotti nuo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1828800"/>
            <a:ext cx="75438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Confronto tra settore marketing e ricerca tecnic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Controllo dell’idea sul merca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Ricerca sull’idea (motivazional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ropensione a provare, propensione a prefer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ropensione a pag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Test prototipo (product te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Verifica del marketing 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Mercato di pro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mpiezza, area, dur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489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Times New Roman"/>
              </a:rPr>
              <a:t>Le Ricerche: alcune tipologi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12193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Indagini sul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1828800"/>
            <a:ext cx="75438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ff66"/>
                </a:solidFill>
                <a:latin typeface="Times New Roman"/>
              </a:rPr>
              <a:t>In 3 fa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prima: copy 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redibilità, atteggiamento affettivo, identif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durante: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richiamo, attenzione, credibilità, ricordo, retroa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dopo:</a:t>
            </a: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gradimento ed effet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l piano di marke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7400" y="762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ove vorremmo ess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33"/>
                </a:solidFill>
                <a:latin typeface="Times New Roman"/>
              </a:rPr>
              <a:t>Obiettivi strate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efinizione dell’intento strate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osizio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Fattori critici di suc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biettivi di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220840" y="83808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sa dobbiamo 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0" y="182880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9933"/>
                </a:solidFill>
                <a:latin typeface="Times New Roman"/>
              </a:rPr>
              <a:t>Piano strate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egmentazione dei cli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osizionamento le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Ricerche di merc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l piano di marke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209680" y="914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Quando? Da chi?  In quanto temp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09680" y="1828800"/>
            <a:ext cx="4267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Piano 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visione vend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iano esecu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umenti di valu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alutazione del p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l piano di market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celta di comportamento in una determinata situ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1523880"/>
            <a:ext cx="822960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chi vender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ree di consumo (merca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sa vender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e vender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e comunicar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u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La Strate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320040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274320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228600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182880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3886200"/>
            <a:ext cx="79246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0080" indent="-100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99"/>
                </a:solidFill>
                <a:latin typeface="Times New Roman"/>
              </a:rPr>
              <a:t>Scelta dei mer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ifferenziazione di prodotto: cogliere quanto c’è di comune ed esaltarne una caratteristica tra quelle comuni per distinguerlo (es.: lava più bian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0080" indent="-10008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egmentazione di mercato: riconoscere diversità delle prefer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9320" y="1927080"/>
            <a:ext cx="3355920" cy="2637000"/>
          </a:xfrm>
          <a:custGeom>
            <a:avLst/>
            <a:gdLst/>
            <a:ahLst/>
            <a:rect l="l" t="t" r="r" b="b"/>
            <a:pathLst>
              <a:path w="2114" h="1661">
                <a:moveTo>
                  <a:pt x="2079" y="0"/>
                </a:moveTo>
                <a:cubicBezTo>
                  <a:pt x="2097" y="53"/>
                  <a:pt x="2103" y="112"/>
                  <a:pt x="2114" y="167"/>
                </a:cubicBezTo>
                <a:cubicBezTo>
                  <a:pt x="2105" y="425"/>
                  <a:pt x="2108" y="591"/>
                  <a:pt x="1967" y="802"/>
                </a:cubicBezTo>
                <a:cubicBezTo>
                  <a:pt x="1935" y="850"/>
                  <a:pt x="1937" y="867"/>
                  <a:pt x="1897" y="907"/>
                </a:cubicBezTo>
                <a:cubicBezTo>
                  <a:pt x="1877" y="968"/>
                  <a:pt x="1816" y="1006"/>
                  <a:pt x="1765" y="1040"/>
                </a:cubicBezTo>
                <a:cubicBezTo>
                  <a:pt x="1745" y="1054"/>
                  <a:pt x="1729" y="1074"/>
                  <a:pt x="1709" y="1088"/>
                </a:cubicBezTo>
                <a:cubicBezTo>
                  <a:pt x="1683" y="1126"/>
                  <a:pt x="1598" y="1185"/>
                  <a:pt x="1556" y="1200"/>
                </a:cubicBezTo>
                <a:cubicBezTo>
                  <a:pt x="1462" y="1276"/>
                  <a:pt x="1373" y="1351"/>
                  <a:pt x="1256" y="1388"/>
                </a:cubicBezTo>
                <a:cubicBezTo>
                  <a:pt x="1195" y="1434"/>
                  <a:pt x="1111" y="1448"/>
                  <a:pt x="1039" y="1472"/>
                </a:cubicBezTo>
                <a:cubicBezTo>
                  <a:pt x="941" y="1505"/>
                  <a:pt x="1060" y="1468"/>
                  <a:pt x="976" y="1500"/>
                </a:cubicBezTo>
                <a:cubicBezTo>
                  <a:pt x="958" y="1507"/>
                  <a:pt x="932" y="1509"/>
                  <a:pt x="914" y="1514"/>
                </a:cubicBezTo>
                <a:cubicBezTo>
                  <a:pt x="828" y="1537"/>
                  <a:pt x="744" y="1569"/>
                  <a:pt x="656" y="1584"/>
                </a:cubicBezTo>
                <a:cubicBezTo>
                  <a:pt x="621" y="1590"/>
                  <a:pt x="586" y="1592"/>
                  <a:pt x="551" y="1598"/>
                </a:cubicBezTo>
                <a:cubicBezTo>
                  <a:pt x="435" y="1595"/>
                  <a:pt x="314" y="1617"/>
                  <a:pt x="202" y="1584"/>
                </a:cubicBezTo>
                <a:cubicBezTo>
                  <a:pt x="166" y="1573"/>
                  <a:pt x="124" y="1561"/>
                  <a:pt x="91" y="1542"/>
                </a:cubicBezTo>
                <a:cubicBezTo>
                  <a:pt x="71" y="1530"/>
                  <a:pt x="28" y="1514"/>
                  <a:pt x="28" y="1514"/>
                </a:cubicBezTo>
                <a:cubicBezTo>
                  <a:pt x="18" y="1484"/>
                  <a:pt x="10" y="1453"/>
                  <a:pt x="0" y="1423"/>
                </a:cubicBezTo>
                <a:cubicBezTo>
                  <a:pt x="8" y="1313"/>
                  <a:pt x="18" y="1224"/>
                  <a:pt x="132" y="1179"/>
                </a:cubicBezTo>
                <a:cubicBezTo>
                  <a:pt x="162" y="1134"/>
                  <a:pt x="221" y="1129"/>
                  <a:pt x="272" y="1116"/>
                </a:cubicBezTo>
                <a:cubicBezTo>
                  <a:pt x="374" y="1118"/>
                  <a:pt x="477" y="1119"/>
                  <a:pt x="579" y="1123"/>
                </a:cubicBezTo>
                <a:cubicBezTo>
                  <a:pt x="591" y="1124"/>
                  <a:pt x="644" y="1142"/>
                  <a:pt x="649" y="1144"/>
                </a:cubicBezTo>
                <a:cubicBezTo>
                  <a:pt x="656" y="1146"/>
                  <a:pt x="670" y="1151"/>
                  <a:pt x="670" y="1151"/>
                </a:cubicBezTo>
                <a:cubicBezTo>
                  <a:pt x="712" y="1180"/>
                  <a:pt x="753" y="1177"/>
                  <a:pt x="788" y="1221"/>
                </a:cubicBezTo>
                <a:cubicBezTo>
                  <a:pt x="788" y="1221"/>
                  <a:pt x="823" y="1273"/>
                  <a:pt x="830" y="1284"/>
                </a:cubicBezTo>
                <a:cubicBezTo>
                  <a:pt x="835" y="1291"/>
                  <a:pt x="844" y="1305"/>
                  <a:pt x="844" y="1305"/>
                </a:cubicBezTo>
                <a:cubicBezTo>
                  <a:pt x="854" y="1345"/>
                  <a:pt x="849" y="1327"/>
                  <a:pt x="865" y="1375"/>
                </a:cubicBezTo>
                <a:cubicBezTo>
                  <a:pt x="867" y="1382"/>
                  <a:pt x="872" y="1395"/>
                  <a:pt x="872" y="1395"/>
                </a:cubicBezTo>
                <a:cubicBezTo>
                  <a:pt x="866" y="1480"/>
                  <a:pt x="870" y="1581"/>
                  <a:pt x="830" y="166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9144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Criteri classic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ariabili socio demograf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ariabili geograf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ortamento di acquisto (o non acquis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Segmen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40" y="32479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99"/>
                </a:solidFill>
                <a:latin typeface="Times New Roman"/>
              </a:rPr>
              <a:t>Nuovi criteri perch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egmentazione classica spesso non suffi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non è facile trovare una segmentazione efficace. Occorre provare e correggere fino a trovare il giusto posiziona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l tempo lib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523880"/>
            <a:ext cx="83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mpo di vita complementare a quello dedicato al lavoro, di cui l’individuo può disporre con discrezionalità di scelta in maniera più o meno attiva per fini creativi e ricreativ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429000"/>
            <a:ext cx="79246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vorisce distribuzione dell’occupazion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duce la competitività e favorisce la pace socia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l lavoro assume un valore sociale ed esistenzia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vorisce il progresso civile e cultu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914400"/>
            <a:ext cx="914400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5280" indent="-20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99"/>
                </a:solidFill>
                <a:latin typeface="Times New Roman"/>
              </a:rPr>
              <a:t>Altri parametri di segmentaz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valori (es.: orologi - bontà di funzionamento, mix durata/estetica/funzionamento, status, collezionism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ropensione al cambi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motivo d’impiego  (es.: trapan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estetica (casalinghi Ales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tteggiame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bisogni individu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nfidenza in se st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Segmen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152388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5280" indent="-20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Elementi per la scel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ategie della concorr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sorse finanzia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sibilità di segment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adio di vita di un prodo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Strate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772400" y="1981080"/>
            <a:ext cx="1219320" cy="3505320"/>
          </a:xfrm>
          <a:prstGeom prst="rect">
            <a:avLst/>
          </a:prstGeom>
          <a:solidFill>
            <a:srgbClr val="b2b2b2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1981080"/>
            <a:ext cx="2895480" cy="3505320"/>
          </a:xfrm>
          <a:prstGeom prst="rect">
            <a:avLst/>
          </a:prstGeom>
          <a:solidFill>
            <a:srgbClr val="b2b2b2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1981080"/>
            <a:ext cx="2210040" cy="3505320"/>
          </a:xfrm>
          <a:prstGeom prst="rect">
            <a:avLst/>
          </a:prstGeom>
          <a:solidFill>
            <a:srgbClr val="b2b2b2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0" y="838080"/>
          <a:ext cx="9144000" cy="5970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38080"/>
                    <a:ext cx="9144000" cy="597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523880" y="1981080"/>
            <a:ext cx="1143000" cy="3505320"/>
          </a:xfrm>
          <a:prstGeom prst="rect">
            <a:avLst/>
          </a:prstGeom>
          <a:solidFill>
            <a:srgbClr val="b2b2b2">
              <a:alpha val="50000"/>
            </a:srgbClr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Ciclo di vita del prodo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3880" y="2666880"/>
            <a:ext cx="1143000" cy="2895840"/>
          </a:xfrm>
          <a:custGeom>
            <a:avLst/>
            <a:gdLst/>
            <a:ahLst/>
            <a:rect l="l" t="t" r="r" b="b"/>
            <a:pathLst>
              <a:path w="720" h="1824">
                <a:moveTo>
                  <a:pt x="0" y="1824"/>
                </a:moveTo>
                <a:cubicBezTo>
                  <a:pt x="36" y="1660"/>
                  <a:pt x="72" y="1496"/>
                  <a:pt x="144" y="1248"/>
                </a:cubicBezTo>
                <a:cubicBezTo>
                  <a:pt x="216" y="1000"/>
                  <a:pt x="336" y="544"/>
                  <a:pt x="432" y="336"/>
                </a:cubicBezTo>
                <a:cubicBezTo>
                  <a:pt x="528" y="128"/>
                  <a:pt x="624" y="64"/>
                  <a:pt x="720" y="0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1677600" y="44942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iovent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2489040"/>
            <a:ext cx="2210040" cy="177840"/>
          </a:xfrm>
          <a:custGeom>
            <a:avLst/>
            <a:gdLst/>
            <a:ahLst/>
            <a:rect l="l" t="t" r="r" b="b"/>
            <a:pathLst>
              <a:path w="1392" h="112">
                <a:moveTo>
                  <a:pt x="0" y="112"/>
                </a:moveTo>
                <a:cubicBezTo>
                  <a:pt x="32" y="96"/>
                  <a:pt x="64" y="80"/>
                  <a:pt x="144" y="64"/>
                </a:cubicBezTo>
                <a:cubicBezTo>
                  <a:pt x="224" y="48"/>
                  <a:pt x="312" y="24"/>
                  <a:pt x="480" y="16"/>
                </a:cubicBezTo>
                <a:cubicBezTo>
                  <a:pt x="648" y="8"/>
                  <a:pt x="1000" y="0"/>
                  <a:pt x="1152" y="16"/>
                </a:cubicBezTo>
                <a:cubicBezTo>
                  <a:pt x="1304" y="32"/>
                  <a:pt x="1348" y="72"/>
                  <a:pt x="1392" y="112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76920" y="2666880"/>
            <a:ext cx="2895480" cy="1295640"/>
          </a:xfrm>
          <a:custGeom>
            <a:avLst/>
            <a:gdLst/>
            <a:ahLst/>
            <a:rect l="l" t="t" r="r" b="b"/>
            <a:pathLst>
              <a:path w="1824" h="816">
                <a:moveTo>
                  <a:pt x="0" y="0"/>
                </a:moveTo>
                <a:cubicBezTo>
                  <a:pt x="28" y="56"/>
                  <a:pt x="56" y="112"/>
                  <a:pt x="96" y="144"/>
                </a:cubicBezTo>
                <a:cubicBezTo>
                  <a:pt x="136" y="176"/>
                  <a:pt x="176" y="192"/>
                  <a:pt x="240" y="192"/>
                </a:cubicBezTo>
                <a:cubicBezTo>
                  <a:pt x="304" y="192"/>
                  <a:pt x="400" y="152"/>
                  <a:pt x="480" y="144"/>
                </a:cubicBezTo>
                <a:cubicBezTo>
                  <a:pt x="560" y="136"/>
                  <a:pt x="656" y="128"/>
                  <a:pt x="720" y="144"/>
                </a:cubicBezTo>
                <a:cubicBezTo>
                  <a:pt x="784" y="160"/>
                  <a:pt x="808" y="176"/>
                  <a:pt x="864" y="240"/>
                </a:cubicBezTo>
                <a:cubicBezTo>
                  <a:pt x="920" y="304"/>
                  <a:pt x="992" y="472"/>
                  <a:pt x="1056" y="528"/>
                </a:cubicBezTo>
                <a:cubicBezTo>
                  <a:pt x="1120" y="584"/>
                  <a:pt x="1184" y="576"/>
                  <a:pt x="1248" y="576"/>
                </a:cubicBezTo>
                <a:cubicBezTo>
                  <a:pt x="1312" y="576"/>
                  <a:pt x="1360" y="520"/>
                  <a:pt x="1440" y="528"/>
                </a:cubicBezTo>
                <a:cubicBezTo>
                  <a:pt x="1520" y="536"/>
                  <a:pt x="1664" y="576"/>
                  <a:pt x="1728" y="624"/>
                </a:cubicBezTo>
                <a:cubicBezTo>
                  <a:pt x="1792" y="672"/>
                  <a:pt x="1808" y="744"/>
                  <a:pt x="1824" y="816"/>
                </a:cubicBezTo>
              </a:path>
            </a:pathLst>
          </a:custGeom>
          <a:noFill/>
          <a:ln w="5724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72400" y="3962520"/>
            <a:ext cx="685800" cy="1371600"/>
          </a:xfrm>
          <a:custGeom>
            <a:avLst/>
            <a:gdLst/>
            <a:ahLst/>
            <a:rect l="l" t="t" r="r" b="b"/>
            <a:pathLst>
              <a:path w="432" h="864">
                <a:moveTo>
                  <a:pt x="0" y="0"/>
                </a:moveTo>
                <a:cubicBezTo>
                  <a:pt x="32" y="184"/>
                  <a:pt x="64" y="368"/>
                  <a:pt x="96" y="480"/>
                </a:cubicBezTo>
                <a:cubicBezTo>
                  <a:pt x="128" y="592"/>
                  <a:pt x="136" y="608"/>
                  <a:pt x="192" y="672"/>
                </a:cubicBezTo>
                <a:cubicBezTo>
                  <a:pt x="248" y="736"/>
                  <a:pt x="340" y="800"/>
                  <a:pt x="432" y="864"/>
                </a:cubicBezTo>
              </a:path>
            </a:pathLst>
          </a:custGeom>
          <a:noFill/>
          <a:ln w="5724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6200000">
            <a:off x="3811320" y="44942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tur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6706800" y="44942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cchia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6200000">
            <a:off x="7926120" y="449424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cl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4120" y="1905120"/>
            <a:ext cx="2133360" cy="1447560"/>
            <a:chOff x="5334120" y="1905120"/>
            <a:chExt cx="2133360" cy="1447560"/>
          </a:xfrm>
        </p:grpSpPr>
        <p:sp>
          <p:nvSpPr>
            <p:cNvPr id="232" name=""/>
            <p:cNvSpPr/>
            <p:nvPr/>
          </p:nvSpPr>
          <p:spPr>
            <a:xfrm>
              <a:off x="5334120" y="19051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cc99"/>
                  </a:solidFill>
                  <a:latin typeface="Times New Roman"/>
                </a:rPr>
                <a:t>Segmentaz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943240" y="2362320"/>
              <a:ext cx="152280" cy="38088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05720" y="2362320"/>
              <a:ext cx="380880" cy="990360"/>
            </a:xfrm>
            <a:prstGeom prst="line">
              <a:avLst/>
            </a:prstGeom>
            <a:ln w="38160">
              <a:solidFill>
                <a:srgbClr val="ff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Marketing esperenz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83808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’orientamento al cliente non è sufficiente. Occorre tenere conto delle specificità dell’i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828800"/>
            <a:ext cx="82296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ffetti della crescita del reddito sui consum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se 1: passaggio da consumi primari a consumi voluttuar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se 2: consumi come segno di distinzione. Relazione stretta variabili socio - anagrafiche / classe sociale /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se 3: Ricerca di soddisfazione di “benefici simbolici”, aumento dell’area del “prodotto atteso” con riferimenti estetici e simboli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Marketing esperenz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1828800"/>
            <a:ext cx="8229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Modifiche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Siamo passati da un sistema di divi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ienza / arte / diritto (M. Web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empo libero / tempo occup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pazi giorno / spazi no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ad un sistema de - differenzi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Marketing esperenz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1828800"/>
            <a:ext cx="82296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Caratteristiche della società “post modern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99"/>
                </a:solidFill>
                <a:latin typeface="Times New Roman"/>
              </a:rPr>
              <a:t>Frammentazione</a:t>
            </a: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ell’unità del consumatore in un insieme di molteplici e variegate esperienze, attività, stili di vita, modi di essere, tutti riferiti allo stesso sogget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99"/>
                </a:solidFill>
                <a:latin typeface="Times New Roman"/>
              </a:rPr>
              <a:t>Perdita d’interesse</a:t>
            </a: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verso un progetto di vita univo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ono le</a:t>
            </a: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cc99"/>
                </a:solidFill>
                <a:latin typeface="Times New Roman"/>
              </a:rPr>
              <a:t>pratiche di consumo</a:t>
            </a: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he danno</a:t>
            </a: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cc99"/>
                </a:solidFill>
                <a:latin typeface="Times New Roman"/>
              </a:rPr>
              <a:t>appartenenza</a:t>
            </a: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e non le strutture soci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l</a:t>
            </a: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cc99"/>
                </a:solidFill>
                <a:latin typeface="Times New Roman"/>
              </a:rPr>
              <a:t>consumo è comunicazione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, quindi</a:t>
            </a: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cc99"/>
                </a:solidFill>
                <a:latin typeface="Times New Roman"/>
              </a:rPr>
              <a:t>estetizzazione</a:t>
            </a: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Marketing esperenz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1828800"/>
            <a:ext cx="87631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Ne deri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119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onfinamento del prodotto d’arte (come elemento dal valore estetico e di comunicazione) nella vita quotidi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119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ita quotidiana che diventa un prodotto artistico di per s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119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scente capacità di produzione di immagini e commistione di mezz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119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versione di ruoli tra produttore e consumat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Marketing esperenzi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880" y="1828800"/>
            <a:ext cx="87631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Nei modelli tradizionali “consumer behavior” di comportamento nel consumo, si poneva interesse nell’atto di acquis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fasi della decision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effetti della soddisfazione/insoddisfazione sul processo di acqui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Meno attenzione al momento in cui il consumat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utilizza le sue competen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ollecita le emozi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Marketing esperenziale: </a:t>
            </a:r>
            <a:r>
              <a:rPr b="1" lang="it-IT" sz="2000" spc="-1" strike="noStrike">
                <a:solidFill>
                  <a:srgbClr val="ff9999"/>
                </a:solidFill>
                <a:latin typeface="Times New Roman"/>
              </a:rPr>
              <a:t>le pratiche di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828800"/>
            <a:ext cx="8763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 </a:t>
            </a: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modalità di consum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non il tipo di consumo sono veicoli d’in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 giudica più sulla capacità di </a:t>
            </a: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discostarsi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ai valori conosciuti che dal loro rispet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426708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Processo cognitivo di caratterizzazione e distinzion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34120" y="4267080"/>
            <a:ext cx="3429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Times New Roman"/>
              </a:rPr>
              <a:t>Processi comportamental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752480" y="4800600"/>
            <a:ext cx="4648320" cy="1526400"/>
            <a:chOff x="1752480" y="4800600"/>
            <a:chExt cx="4648320" cy="1526400"/>
          </a:xfrm>
        </p:grpSpPr>
        <p:sp>
          <p:nvSpPr>
            <p:cNvPr id="251" name=""/>
            <p:cNvSpPr/>
            <p:nvPr/>
          </p:nvSpPr>
          <p:spPr>
            <a:xfrm>
              <a:off x="1752480" y="4800600"/>
              <a:ext cx="4648320" cy="914400"/>
            </a:xfrm>
            <a:custGeom>
              <a:avLst/>
              <a:gdLst/>
              <a:ahLst/>
              <a:rect l="l" t="t" r="r" b="b"/>
              <a:pathLst>
                <a:path w="2928" h="576">
                  <a:moveTo>
                    <a:pt x="0" y="192"/>
                  </a:moveTo>
                  <a:lnTo>
                    <a:pt x="0" y="576"/>
                  </a:lnTo>
                  <a:lnTo>
                    <a:pt x="2928" y="576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ffff6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905120" y="5867280"/>
              <a:ext cx="434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Capacità e creativit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Marketing esperenziale: </a:t>
            </a:r>
            <a:r>
              <a:rPr b="1" lang="it-IT" sz="2000" spc="-1" strike="noStrike">
                <a:solidFill>
                  <a:srgbClr val="ff9999"/>
                </a:solidFill>
                <a:latin typeface="Times New Roman"/>
              </a:rPr>
              <a:t>le pratiche di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828800"/>
            <a:ext cx="87631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isogna passare dall’attenzione al </a:t>
            </a: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“modello decisionale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ll’attenzione ai </a:t>
            </a: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“processi di consumo”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vere / consumare beni (non avere / non consumare) consente di </a:t>
            </a: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comunicare attraverso la loro associazion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Più sono creativi più sono utili / utilizzabi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’ il consumo e non l’acquisto che consentono emozioni / sensazioni / divert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ora è importante studiare le fasi di consumo, il modello delle attività e delle pratiche di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6688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Concorr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11430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sistono 4 tipi di concorren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2860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eside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228600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5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ggior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Esercizio f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ura della c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tratten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ho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909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n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35193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420516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mpr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743200" y="3581280"/>
            <a:ext cx="61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n T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n luogo pub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200" y="2971800"/>
            <a:ext cx="6172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ea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usica sinfo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ncerto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D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o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Antich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743200" y="42991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use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99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use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Galleria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2286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cu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2971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antich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5053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n luogo pub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426708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museo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Marketing esperenziale: </a:t>
            </a:r>
            <a:r>
              <a:rPr b="1" lang="it-IT" sz="2000" spc="-1" strike="noStrike">
                <a:solidFill>
                  <a:srgbClr val="ff9999"/>
                </a:solidFill>
                <a:latin typeface="Times New Roman"/>
              </a:rPr>
              <a:t>modello di analisi attività e pratiche di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220968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ttività 1) Predisposizione dei set informativi: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cc99"/>
                </a:solidFill>
                <a:latin typeface="Times New Roman"/>
              </a:rPr>
              <a:t>Sensing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ttività 2) Interazione con il contesto di consumo: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cc99"/>
                </a:solidFill>
                <a:latin typeface="Times New Roman"/>
              </a:rPr>
              <a:t>Sharing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ttività 3) Operatività / utilizzo: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cc99"/>
                </a:solidFill>
                <a:latin typeface="Times New Roman"/>
              </a:rPr>
              <a:t>Performing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0880" y="9907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Tre attività distinguibili e sovrappo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Marketing esperenziale: </a:t>
            </a:r>
            <a:r>
              <a:rPr b="1" lang="it-IT" sz="2000" spc="-1" strike="noStrike">
                <a:solidFill>
                  <a:srgbClr val="ff9999"/>
                </a:solidFill>
                <a:latin typeface="Times New Roman"/>
              </a:rPr>
              <a:t>modello di analisi attività e pratiche di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Fasi%20scelta%20e%20uso%20servizio" descr=""/>
          <p:cNvPicPr/>
          <p:nvPr/>
        </p:nvPicPr>
        <p:blipFill>
          <a:blip r:embed="rId2"/>
          <a:stretch/>
        </p:blipFill>
        <p:spPr>
          <a:xfrm>
            <a:off x="304920" y="609480"/>
            <a:ext cx="861048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99"/>
                </a:solidFill>
                <a:latin typeface="Times New Roman"/>
              </a:rPr>
              <a:t>Marketing esperenziale:</a:t>
            </a: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9999"/>
                </a:solidFill>
                <a:latin typeface="Times New Roman"/>
              </a:rPr>
              <a:t>attività e pratiche di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67652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Predisposizione dei set informativ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ne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chiamo al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tilizzo delle informazioni per consumo soddisfac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08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Times New Roman"/>
              </a:rPr>
              <a:t>Sen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99"/>
                </a:solidFill>
                <a:latin typeface="Times New Roman"/>
              </a:rPr>
              <a:t>Marketing esperenziale:</a:t>
            </a: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9999"/>
                </a:solidFill>
                <a:latin typeface="Times New Roman"/>
              </a:rPr>
              <a:t>attività e pratiche di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676520"/>
            <a:ext cx="861048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99"/>
                </a:solidFill>
                <a:latin typeface="Times New Roman"/>
              </a:rPr>
              <a:t>Interazione con il contes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rtefatti, relazioni, soggetti (partecipano alla costruzione del contesto. Contribuiscono alla sua generazion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Fruizione collettiva di un luogo con altre persone che rendono l’esperienza congiu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Relazione con spazi e percor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artecipazione ad eventi pre e post (fidelizzazione e residenza affettiv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ndivisione / commento / comunicazione dell’esperienza con altri soggetti nei giorni successivi reiterando la partecipazione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Times New Roman"/>
              </a:rPr>
              <a:t>Sh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99"/>
                </a:solidFill>
                <a:latin typeface="Times New Roman"/>
              </a:rPr>
              <a:t>Marketing esperenziale:</a:t>
            </a: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9999"/>
                </a:solidFill>
                <a:latin typeface="Times New Roman"/>
              </a:rPr>
              <a:t>attività e pratiche di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676520"/>
            <a:ext cx="86104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Attività operativa di utilizz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iti operativi (prenotazione, acquist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sonalizzazione dell’utilizzo (spostamento, itinerario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alutazione dell’esperienza (attenzione alle emozioni, riflessioni duran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Times New Roman"/>
              </a:rPr>
              <a:t>Perfo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99"/>
                </a:solidFill>
                <a:latin typeface="Times New Roman"/>
              </a:rPr>
              <a:t>Marketing esperenziale:</a:t>
            </a: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9999"/>
                </a:solidFill>
                <a:latin typeface="Times New Roman"/>
              </a:rPr>
              <a:t>attività e pratiche di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1676520"/>
            <a:ext cx="8610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Diverse combinazione di attività e pratiche di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dattando le propo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nerandole ed inventand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creano personalizzazione e distin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4191120"/>
            <a:ext cx="6629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Deriv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00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atiche di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00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stituzionalizzazione delle pra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001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tuali di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99"/>
                </a:solidFill>
                <a:latin typeface="Times New Roman"/>
              </a:rPr>
              <a:t>Marketing esperenziale:</a:t>
            </a: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9999"/>
                </a:solidFill>
                <a:latin typeface="Times New Roman"/>
              </a:rPr>
              <a:t>rituale di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1828800"/>
            <a:ext cx="8610480" cy="24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&lt;&lt; Che cos'è un rito ? &gt;&gt; disse il piccolo principe.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&lt; &lt; Anche questa è una cosa da tempo dimenticata &gt;&gt;, disse la volpe. &lt;&lt; è quello che fà un giorno diverso dagli altri giorni, un'ora diversa dalle altre ore. …...&gt;&gt;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99"/>
                </a:solidFill>
                <a:latin typeface="Times New Roman"/>
              </a:rPr>
              <a:t>Marketing esperenziale:</a:t>
            </a: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9999"/>
                </a:solidFill>
                <a:latin typeface="Times New Roman"/>
              </a:rPr>
              <a:t>rituale di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914400"/>
            <a:ext cx="8610480" cy="37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tuale di consumo è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un’azione socia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estinato a caricare di significati culturali una serie di azioni ai fini di una comunicazione e categorizzazione collettiva ed individu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ituale è una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opportunità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 affermare, evocare, creare, rivedere i simboli convenzionali e i significati di un ordine cultu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99"/>
                </a:solidFill>
                <a:latin typeface="Times New Roman"/>
              </a:rPr>
              <a:t>Marketing esperenziale:</a:t>
            </a: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9999"/>
                </a:solidFill>
                <a:latin typeface="Times New Roman"/>
              </a:rPr>
              <a:t>pratiche di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914400"/>
            <a:ext cx="86104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Pellegrinag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visita e fruizione di “Templi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visita e fruizione delle loro rivel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eriodica distrazione dalla vita quotidiana a scopo di rigenerazione emotiva ed esperenziale attraverso il contatto con alcune espressioni più alte dell’umanità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Collezion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ele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cqui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99"/>
                </a:solidFill>
                <a:latin typeface="Times New Roman"/>
              </a:rPr>
              <a:t>Marketing esperenziale:</a:t>
            </a: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9999"/>
                </a:solidFill>
                <a:latin typeface="Times New Roman"/>
              </a:rPr>
              <a:t>pratiche di consumo, il </a:t>
            </a:r>
            <a:r>
              <a:rPr b="1" lang="it-IT" sz="2400" spc="-1" strike="noStrike">
                <a:solidFill>
                  <a:srgbClr val="ff9999"/>
                </a:solidFill>
                <a:latin typeface="Times New Roman"/>
              </a:rPr>
              <a:t>Pellegrinagg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914400"/>
            <a:ext cx="86104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99"/>
                </a:solidFill>
                <a:latin typeface="Times New Roman"/>
              </a:rPr>
              <a:t>Sen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notevole cura dedicata alla raccolta di dati da fonti ester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let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riv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bbona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ocumentazione in l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prestare attenzione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enso di scope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generazione di inform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coperta di un lu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coperta di oggetti da compr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609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Estet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523880"/>
            <a:ext cx="8305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Dare maggiore valore all’aspetto este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unicare attraverso l’u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429000"/>
            <a:ext cx="79246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icchezza e consu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se 1: consumi voluttuar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se 2: consumo come statu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se 3: consumo come comunicazion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99"/>
                </a:solidFill>
                <a:latin typeface="Times New Roman"/>
              </a:rPr>
              <a:t>Marketing esperenziale:</a:t>
            </a: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9999"/>
                </a:solidFill>
                <a:latin typeface="Times New Roman"/>
              </a:rPr>
              <a:t>pratiche di consumo, il </a:t>
            </a:r>
            <a:r>
              <a:rPr b="1" lang="it-IT" sz="2400" spc="-1" strike="noStrike">
                <a:solidFill>
                  <a:srgbClr val="ff9999"/>
                </a:solidFill>
                <a:latin typeface="Times New Roman"/>
              </a:rPr>
              <a:t>Pellegrinagg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920" y="9144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99"/>
                </a:solidFill>
                <a:latin typeface="Times New Roman"/>
              </a:rPr>
              <a:t>Shar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forte connotazione sociale su regole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nterazione intensa con il gruppo dei compagni di viaggio, da cui dipende molto l’emozione dell’esperienz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2590920"/>
            <a:ext cx="86104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99"/>
                </a:solidFill>
                <a:latin typeface="Times New Roman"/>
              </a:rPr>
              <a:t>Perform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ersonalizzazione attraverso il processo 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rogram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rganizz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ttività accesso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491004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Certificazione dell’esperienz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qui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uven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99"/>
                </a:solidFill>
                <a:latin typeface="Times New Roman"/>
              </a:rPr>
              <a:t>Marketing esperenziale:</a:t>
            </a: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9999"/>
                </a:solidFill>
                <a:latin typeface="Times New Roman"/>
              </a:rPr>
              <a:t>manag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9144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99"/>
                </a:solidFill>
                <a:latin typeface="Times New Roman"/>
              </a:rPr>
              <a:t>Come gestire il marketing in una visione post moderna: conoscenze e competen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2073240"/>
            <a:ext cx="77724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Management della ritualit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biettivi:</a:t>
            </a:r>
            <a:r>
              <a:rPr b="1" lang="en-US" sz="24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oscere quali sono le attività del r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are il rito e favorirne un radicamento cultu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umen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struire rete di relazioni per connettere conosc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pportare con servi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99"/>
                </a:solidFill>
                <a:latin typeface="Times New Roman"/>
              </a:rPr>
              <a:t>Marketing esperenziale:</a:t>
            </a: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9999"/>
                </a:solidFill>
                <a:latin typeface="Times New Roman"/>
              </a:rPr>
              <a:t>manag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920" y="990720"/>
            <a:ext cx="77724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Management della sorpres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ddisfare il bisogno di esperienza e di emo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gettare elementi di sorpresa, eccezionalità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re percezione di partecipare ad un ev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uni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viluppare l’inte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99"/>
                </a:solidFill>
                <a:latin typeface="Times New Roman"/>
              </a:rPr>
              <a:t>Marketing esperenziale:</a:t>
            </a: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9999"/>
                </a:solidFill>
                <a:latin typeface="Times New Roman"/>
              </a:rPr>
              <a:t>manag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990720"/>
            <a:ext cx="77724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Management sistemi di consu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l consumatore post - moderno è caratterizzato 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frammentazione dell’esperi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estetizzazione della vita quotidi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ntribuzione alla generazione di valore attraverso il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gli elementi che distinguono o motivano il viaggio sono inseriti nella quotidian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nosciute le modalità di consumo è possibile fare una pro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9999"/>
                </a:solidFill>
                <a:latin typeface="Times New Roman"/>
              </a:rPr>
              <a:t>Marketing esperenziale:</a:t>
            </a:r>
            <a:r>
              <a:rPr b="1" lang="it-IT" sz="2800" spc="-1" strike="noStrike">
                <a:solidFill>
                  <a:srgbClr val="ff9999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9999"/>
                </a:solidFill>
                <a:latin typeface="Times New Roman"/>
              </a:rPr>
              <a:t>manag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920" y="990720"/>
            <a:ext cx="777240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Management strumenti di rice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ratiche, esperienze, emozioni, relazioni, valori culturali, sono colti solo marginalmente dai tradizionali strumenti di ricerca qualitativi / quantitativ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ccorrono nuovi strumenti di ricerca post modern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ntrospe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osserv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toryte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600200" y="9144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33"/>
                </a:solidFill>
                <a:latin typeface="Times New Roman"/>
              </a:rPr>
              <a:t>è definito 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6320" y="179856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no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320" y="323856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ff"/>
                </a:solidFill>
                <a:latin typeface="Times New Roman"/>
              </a:rPr>
              <a:t>packag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95748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qualit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467820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ervizi accessor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320" y="539748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garanz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251784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aratteristi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2590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lemento di distinzione e ricor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276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elementi che lo distinguo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9765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nfezionamento: ricordo, distin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472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attese del consumatore da soddisf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5486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per accrescerne la competitiv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6110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lausole per la soddisfazione del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odo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odo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914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ttrattiva di un prodotto/servizio culturale è nella sua individualità e specific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133720"/>
            <a:ext cx="815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visitatori cercano esperienze che oltrepassando l’apprendere / fare / divertirsi diano an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gt; brivido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gt; eccitazion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gt; rilassamento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gt; piacere esteti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gt; scoperta intellettu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464832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Una serie di molteplici stimoli che si trasformino in una  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“esperienz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odo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685800"/>
            <a:ext cx="838224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Times New Roman"/>
              </a:rPr>
              <a:t>La gamma: insieme dei prodotti / servizi offer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arametri per la definizione della gam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ntrare in nuovi mercati Cresc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nciare nuovi prodotti Diversifi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mentare la possibilità di quelli esistente Consolid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Una gamma è insufficiente 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pacità produttive e commerciali non sfrut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entrazione del fatturato su un prodo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minuzione delle ven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er perseguire una continuità l’azienda può suddividere i prodotti in categori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54100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ccessi di og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ccessi di doma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ccessi di i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54100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upera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valli zop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lli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odo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104292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lementi per la valutazione dei prodotti di una gam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ttu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dditiv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orr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se del ciclo di v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antaggio al consuma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tuazione produ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5280" indent="-20808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erenza con l’immagine aziend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odo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1219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Qualità del serviz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0948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ovi valori aggiu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5238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 lavorazione, la stoffa, la qualità, il design hanno sostituito il marchio, la grif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283356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uovi valori di consu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00200" y="1371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è definito 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320" y="224460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zzo al consumato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6320" y="368460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bbu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440388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redi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296388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ezzo all’intermediar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3062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corrispettivo da richiedere al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3733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margine, com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4495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politiche di sconti per favorire la penet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5181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tempi e modalità di pag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ez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ez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143000" y="3429000"/>
            <a:ext cx="68580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43400" y="3657600"/>
            <a:ext cx="457200" cy="4572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19320" y="27432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om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553080" y="27432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f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10240" y="2666880"/>
            <a:ext cx="152352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3733920" y="2666880"/>
            <a:ext cx="167544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8380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i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505320" y="16765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rezz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533520" y="1600200"/>
            <a:ext cx="8610480" cy="3949560"/>
            <a:chOff x="533520" y="1600200"/>
            <a:chExt cx="8610480" cy="3949560"/>
          </a:xfrm>
        </p:grpSpPr>
        <p:sp>
          <p:nvSpPr>
            <p:cNvPr id="340" name=""/>
            <p:cNvSpPr/>
            <p:nvPr/>
          </p:nvSpPr>
          <p:spPr>
            <a:xfrm>
              <a:off x="533520" y="3200400"/>
              <a:ext cx="2895480" cy="825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Times New Roman"/>
                </a:rPr>
                <a:t>Differenziabilità del prodot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1280" y="1600200"/>
              <a:ext cx="289584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Qualità del prodot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086600" y="3124080"/>
              <a:ext cx="2057400" cy="825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Grado di competiz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895480" y="4724280"/>
              <a:ext cx="1676520" cy="8254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truttura dei cos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67280" y="4724280"/>
              <a:ext cx="1371600" cy="45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arg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ez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8600" y="9144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uovo concetto di prezz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31240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rezz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3505320" y="2133720"/>
            <a:ext cx="3504960" cy="2514240"/>
            <a:chOff x="3505320" y="2133720"/>
            <a:chExt cx="3504960" cy="2514240"/>
          </a:xfrm>
        </p:grpSpPr>
        <p:sp>
          <p:nvSpPr>
            <p:cNvPr id="349" name=""/>
            <p:cNvSpPr/>
            <p:nvPr/>
          </p:nvSpPr>
          <p:spPr>
            <a:xfrm>
              <a:off x="5181480" y="2133720"/>
              <a:ext cx="0" cy="9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505320" y="3429000"/>
              <a:ext cx="10666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6172200" y="342900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4191120" y="3809520"/>
              <a:ext cx="761760" cy="8384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5867280" y="3809520"/>
              <a:ext cx="457200" cy="7621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533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La determinazione di un prezzo avviene in base alla valutazione congiunta di tre metod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ez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52280" y="1600200"/>
            <a:ext cx="4191120" cy="3431520"/>
            <a:chOff x="152280" y="1600200"/>
            <a:chExt cx="4191120" cy="3431520"/>
          </a:xfrm>
        </p:grpSpPr>
        <p:sp>
          <p:nvSpPr>
            <p:cNvPr id="357" name=""/>
            <p:cNvSpPr/>
            <p:nvPr/>
          </p:nvSpPr>
          <p:spPr>
            <a:xfrm>
              <a:off x="152280" y="160020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Matematic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2280" y="320040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Basati sulla competizi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52280" y="4572000"/>
              <a:ext cx="419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rrazional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4648320" y="166068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mark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break even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sto margi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648320" y="323208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orrenz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 penet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 screm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48320" y="451152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alore percep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ezzo psicolo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928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La contabilità analitica è lo studio della struttura dei c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ez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52280" y="1996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costi possono essere classificati in diverse maniere. Le principali so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3338640"/>
            <a:ext cx="4190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sti diretti / costi indire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sti fissi /  costi varia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0" y="928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sti diretti (o costo primo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ez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2280" y="199692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ono rappresentati dalle spese dirette effettuate per produrre e a questa direttamente imputabili. Es.:materie prime, usura macchinari, mano d’opera, ecc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45720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ono le spese residue di conduzione dell’impresa: locazione uffici, personale amministrativo, oneri finanziari ecc.. Vengono addebitate per quote al prodotto / serviz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3519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sti indiretti (o costi supplementari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0" y="928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sti fiss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ez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2280" y="1996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ono quelli che non variano al variare della produzione. Es.: personale amministrativo, locazioni, ammortamen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14600" y="3048120"/>
            <a:ext cx="4191120" cy="2590560"/>
          </a:xfrm>
          <a:custGeom>
            <a:avLst/>
            <a:gdLst/>
            <a:ahLst/>
            <a:rect l="l" t="t" r="r" b="b"/>
            <a:pathLst>
              <a:path w="2640" h="1632">
                <a:moveTo>
                  <a:pt x="0" y="0"/>
                </a:moveTo>
                <a:lnTo>
                  <a:pt x="0" y="1632"/>
                </a:lnTo>
                <a:lnTo>
                  <a:pt x="2640" y="163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16200000">
            <a:off x="762840" y="4721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6232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00400" y="571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191120" y="571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5780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019920" y="5715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038480" y="6248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ntità prodot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447920" y="2895480"/>
            <a:ext cx="1066680" cy="2822040"/>
            <a:chOff x="1447920" y="2895480"/>
            <a:chExt cx="1066680" cy="2822040"/>
          </a:xfrm>
        </p:grpSpPr>
        <p:sp>
          <p:nvSpPr>
            <p:cNvPr id="384" name=""/>
            <p:cNvSpPr/>
            <p:nvPr/>
          </p:nvSpPr>
          <p:spPr>
            <a:xfrm>
              <a:off x="2133720" y="5257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447920" y="28954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447920" y="396216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2514600" y="4572000"/>
            <a:ext cx="7632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590920" y="4648320"/>
            <a:ext cx="8380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29000" y="4648320"/>
            <a:ext cx="99072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343400" y="4648320"/>
            <a:ext cx="114300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486400" y="4648320"/>
            <a:ext cx="106668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553080" y="4648320"/>
            <a:ext cx="106704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928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</a:rPr>
              <a:t>Costi variabil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ez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2280" y="199692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ono quelli che variano al variare della quantità prodotta. Es.: materie prime, provvigio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90920" y="3048120"/>
            <a:ext cx="4190760" cy="2590560"/>
          </a:xfrm>
          <a:custGeom>
            <a:avLst/>
            <a:gdLst/>
            <a:ahLst/>
            <a:rect l="l" t="t" r="r" b="b"/>
            <a:pathLst>
              <a:path w="2640" h="1632">
                <a:moveTo>
                  <a:pt x="0" y="0"/>
                </a:moveTo>
                <a:lnTo>
                  <a:pt x="0" y="1632"/>
                </a:lnTo>
                <a:lnTo>
                  <a:pt x="2640" y="163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16200000">
            <a:off x="839160" y="4721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38280" y="57150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76720" y="57150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267080" y="5715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4120" y="5715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095880" y="5715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114800" y="6248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ntità prodot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523880" y="2895480"/>
            <a:ext cx="1066680" cy="2822040"/>
            <a:chOff x="1523880" y="2895480"/>
            <a:chExt cx="1066680" cy="2822040"/>
          </a:xfrm>
        </p:grpSpPr>
        <p:sp>
          <p:nvSpPr>
            <p:cNvPr id="405" name=""/>
            <p:cNvSpPr/>
            <p:nvPr/>
          </p:nvSpPr>
          <p:spPr>
            <a:xfrm>
              <a:off x="2209680" y="5257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23880" y="28954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23880" y="396216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590920" y="5562720"/>
            <a:ext cx="7596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2666880" y="4962240"/>
            <a:ext cx="1009800" cy="6001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676680" y="4419720"/>
            <a:ext cx="895320" cy="5428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502160" y="3657240"/>
            <a:ext cx="1282680" cy="8002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5784840" y="3059280"/>
            <a:ext cx="1009800" cy="59832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870600" y="2514240"/>
            <a:ext cx="825480" cy="50004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ezzo - metodi matema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6320" y="533520"/>
            <a:ext cx="8991360" cy="62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Times New Roman"/>
              </a:rPr>
              <a:t>Mark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Richiede a monte una attenta analisi della struttura dei costi aziendali nella suddivisione diretti / indiret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Times New Roman"/>
              </a:rPr>
              <a:t>Si articola in due fa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2822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alcolo del rapporto tra costi diretti e costi indiret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2822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pplicazione di una percentuale al costo diretto per la copertura dei costi indire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Times New Roman"/>
              </a:rPr>
              <a:t>E' una metodologia molto us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2822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Es.: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sti diretti unitari: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€25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mark up 20%: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€  5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rezzo di vendita: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€3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Times New Roman"/>
              </a:rPr>
              <a:t>Vantaggi: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facilità di calco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Times New Roman"/>
              </a:rPr>
              <a:t>Svantaggi: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non appropriato per gamme vaste e costi indiretti elev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ezzo - metodi matema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6320" y="533520"/>
            <a:ext cx="899136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66"/>
                </a:solidFill>
                <a:latin typeface="Times New Roman"/>
              </a:rPr>
              <a:t>Break Even Point (o Punto di Pareggi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Times New Roman"/>
              </a:rPr>
              <a:t>Richiede a mo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una attenta analisi della struttura dei costi aziendali nella suddivisione fissi / varia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3200" indent="-19044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una attenta valutazione dei volumi di vendita previ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l prezzo di vendita è quello che copre i costi fissi e i costi variabili per un dato volume di produzione e vend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" y="541008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alcolo del punto di pareg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80880" y="76320"/>
            <a:ext cx="8382240" cy="67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Nuovi valori di consum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Consumatore informato non solo per scegliere ma anche per non scegliere, capace di personalizzare il consumo in maniera unica per distinguersi e comunicar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Frammentazione dell’unità del consumatore in un insieme di molteplici e variegate esperienze, attività, modi di essere, stili di v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Perdita di interesse verso uno stile di vita univo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Pratiche di consumo come appartenen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Il consumo è comunicazione, quindi estetizzazione, quindi maggiore interesse ai caratteri artistici e culturali, sconfinamento nell’a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ezzo - metodi basati sulla compet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9480" y="68580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al momento in cui il mercato non è comandabile solo dal livello dei prezzi, si cercano nuove strategie di penetrazione basate anche sulla valutazione del mercato, cercando di uscire dalle situazioni di concorr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85800" y="2514600"/>
            <a:ext cx="8229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prezzi orientati al mercato si adottano 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3480" indent="-2826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resenza di comportamenti imitat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3480" indent="-2826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tabilità dei c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3480" indent="-2826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rezzi correnti lontano dai c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3480" indent="-2826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forte concorr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3480" indent="-2826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lancio di nuovi prod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3480" indent="-2826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consumatore informato e compe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3480" indent="-2826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ssenza di informazioni sulla qualità del prodot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3480" indent="-2826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carsa conoscenza del fenomeno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ezzo - metodi basati sulla compet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52280" y="685800"/>
            <a:ext cx="8991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Times New Roman"/>
              </a:rPr>
              <a:t>Modalità di determinaz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1)Identificazione dei concorr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2)Assunzione di informazioni su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6040" indent="-28872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prezzi uffici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6040" indent="-28872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reazione alla manovra sui prez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6040" indent="-28872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tempestività di re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6040" indent="-28872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prodotti offer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6040" indent="-28872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obiettivi concorr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6040" indent="-28872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capacità finanzi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16040" indent="-28872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struttura dei costi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eterminazione del prezzo (che a questo punto diventa un elemento di posizionamento nei confronti della concorrenz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ezzo - metodi basati sulla compet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52280" y="685800"/>
            <a:ext cx="899172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765000" indent="-38412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etodo del prezzo concorrenz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000" indent="-38412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(uguale alla concorrenz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 stabilisce il prezzo dopo attenta analisi dei livelli della concorrenza e la valutazione della posizione rispetto a que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Vantag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000" indent="-38412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tabilità di merc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Svantagg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000" indent="-38412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metodo rischio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000" indent="-38412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ossibilità di comportamento collus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ezzo - metodi basati sulla compet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52280" y="685800"/>
            <a:ext cx="899172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63480" indent="-282600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l prezzo di penet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onsiste nel proporre il servizio ad un prezzo minore di quello proposto dalla concorrenza per potere affermarlo sul merca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antaggi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3480" indent="-2826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maggiore produzione facilità le economie di sca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vantagg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3480" indent="-2826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sibile reazione della concorrenza che annulla il vantagg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663480" indent="-2826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nore margine sui singoli beni e serviz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ò essere adottato in caso 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ncanza di mercato di é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otto imit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mportante economie di sca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ezzo - metodi basati sulla compet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52280" y="685800"/>
            <a:ext cx="8991720" cy="59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765000" indent="-2822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l prezzo di screm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Consiste nel proporre un prezzo superiore a quello della concorrenza per distinguerlo qualita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antagg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000" indent="-28224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i differenzia il prodotto faccendone assumere una precisa posizione presso il pubbl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Svantag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000" indent="-28224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sibile reazione della concorrenza (stessa o opposta direzion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uò essere adottato in caso 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000" indent="-2822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manda poco ela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000" indent="-2822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otto non imit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000" indent="-2822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zienda l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765000" indent="-2822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apido recupero inves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ezzo - metodi irraz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066680" y="19051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Sono basati su valutazioni soggettive, tra le quali rientra la qualità e il valore attribuito ad un bene o ad un servizio.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ezzo - metodi irraz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6320" y="609480"/>
            <a:ext cx="8991360" cy="26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Times New Roman"/>
              </a:rPr>
              <a:t>Il valore percep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rezzo in relazione al valore che il cliente attribuisce al serviz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Vantagg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 indent="-39852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tiene in considerazione la domanda (market orien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Svantagg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 indent="-39852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ifficoltà nel definire il valore percep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4080" indent="-39852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gnora la struttura dei cos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1066680" y="3200400"/>
            <a:ext cx="7086600" cy="1069200"/>
            <a:chOff x="1066680" y="3200400"/>
            <a:chExt cx="7086600" cy="1069200"/>
          </a:xfrm>
        </p:grpSpPr>
        <p:sp>
          <p:nvSpPr>
            <p:cNvPr id="435" name=""/>
            <p:cNvSpPr/>
            <p:nvPr/>
          </p:nvSpPr>
          <p:spPr>
            <a:xfrm>
              <a:off x="2666880" y="320040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Livello di qualità (percepit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666880" y="380988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Costo (disutilità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066680" y="35049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Valore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781680" y="350496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66"/>
                  </a:solidFill>
                  <a:latin typeface="Symbol"/>
                  <a:ea typeface="Symbol"/>
                </a:rPr>
                <a:t></a:t>
              </a: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fff66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2438280" y="3733920"/>
            <a:ext cx="4191120" cy="0"/>
          </a:xfrm>
          <a:prstGeom prst="line">
            <a:avLst/>
          </a:prstGeom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4267080"/>
            <a:ext cx="8915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ssono essere stabiliti prezzi più elevati quando si verificano i seguenti fatto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qualità del prodotto non percepibile a priori (chi ricerca qualità si rivolge ad esercizi più car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differenze notevoli tra prezzi di prodotti analog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rischio elev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l prodotto soddisfa bisogno di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ezzo - metodi irrazi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85800"/>
            <a:ext cx="899172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1040" indent="-36828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Times New Roman"/>
              </a:rPr>
              <a:t>Il prezzo psicologico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nsidera la psicologia dei consumatori, le loro percezion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aso tipico i prezzi con i "numeri magici”, valori che il consumatore non percepis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l consumatore reagisce male al prezzo intero multiplo di cento mentre accetta uno sconto anche se di poche li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Vantagg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1040" indent="-36828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metodo orientato al merca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Svantag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51040" indent="-36828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rischio di razionalizzazione del consumator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52280" y="685800"/>
            <a:ext cx="89917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673200" indent="-19044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00200" y="137160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è definito 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320" y="272736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bblicit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320" y="416736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ubbliche relazion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488628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ersona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446640"/>
            <a:ext cx="906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romozione vend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429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azioni destinate a comunicare con il cliente, attraverso media di massa a paga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4038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azioni destinate ad avvicinare il cliente al prodo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4800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azioni destinate a comunicare con particolari gruppi di persone, spesso senza intenzioni di vend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0" y="54864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a contatto con il cliente ha una grande importanza nella definizione dell’imma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2280" y="1219320"/>
            <a:ext cx="899172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l processo di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Un processo di comunicazione vede coinvolte due o più part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este possono essere singoli individui o sistem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ra queste parti viene inviato un messaggio che può ess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2688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erb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2688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cri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2688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ortamen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2688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est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80880" y="76320"/>
            <a:ext cx="8382240" cy="57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arketing: concetti tradizio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base al concetto di marketing il raggiungimento degli obiettivi d’impresa presuppone la  determinazione dei bisogni e dei desideri dei mercati obiettivo, nonché il loro soddisfacimento in modo più efficace ed efficiente dei concorrent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durre ciò che si e’ in grado di vendere,piuttosto che vendere ciò che si produ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Fare tutto ciò che è in nostro potere per assicurare il massimo di valore,qualità e soddisfazione ai soldi spesi dal consuma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52280" y="121932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cc00"/>
                </a:solidFill>
                <a:latin typeface="Arial"/>
              </a:rPr>
              <a:t>Il processo di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0880" y="198108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l messaggio parte da un soggetto che inizialmente è attivo ed è destinato ad un altro che, al momento in cui riceve il messaggio può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26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) ascoltare e ignor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26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b) ascoltare e rispondere (feed back) procedendo ad un meccanismo di interattività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1280" indent="-3268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Nella comunicazione di impresa, deve avvenire uno scambio tra soggetti che traggono dall’operazione reciproco vantagg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(a differenza della informazione che non genera feed back)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609480" y="1140480"/>
            <a:ext cx="919440" cy="919440"/>
            <a:chOff x="609480" y="1140480"/>
            <a:chExt cx="919440" cy="919440"/>
          </a:xfrm>
        </p:grpSpPr>
        <p:sp>
          <p:nvSpPr>
            <p:cNvPr id="461" name=""/>
            <p:cNvSpPr/>
            <p:nvPr/>
          </p:nvSpPr>
          <p:spPr>
            <a:xfrm>
              <a:off x="609480" y="1373040"/>
              <a:ext cx="457200" cy="45720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5438400">
              <a:off x="837720" y="1371240"/>
              <a:ext cx="914400" cy="45720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0440 h 457200"/>
                <a:gd name="textAreaBottom" fmla="*/ 3567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0" y="5335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Times New Roman"/>
              </a:rPr>
              <a:t>comunicat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666880" y="689040"/>
            <a:ext cx="3657600" cy="16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di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uzione del pensiero in linguaggio verbale, gestuale, scritto, comportamentale attraverso codici e meta codi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666880" y="2670120"/>
            <a:ext cx="365760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Decodi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nterpretazione e recepimento del messag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934320" y="195588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MessaggioMez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06800" y="4727520"/>
            <a:ext cx="1217520" cy="113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529" y="242"/>
                </a:moveTo>
                <a:arcTo wR="10800" hR="10800" stAng="-6128369" swAng="12530323"/>
                <a:lnTo>
                  <a:pt x="10800" y="10800"/>
                </a:lnTo>
                <a:close/>
              </a:path>
              <a:path fill="none" w="21600" h="21600">
                <a:moveTo>
                  <a:pt x="8529" y="242"/>
                </a:moveTo>
                <a:arcTo wR="10800" hR="10800" stAng="-6128369" swAng="12530323"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400800" y="6342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icev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43200" y="5108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po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3279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tro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639040" y="765000"/>
            <a:ext cx="1828080" cy="1981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63240" y="2718360"/>
            <a:ext cx="1827720" cy="94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123" y="7627"/>
                </a:moveTo>
                <a:arcTo wR="10800" hR="10800" stAng="-1025270" swAng="6893777"/>
                <a:lnTo>
                  <a:pt x="10800" y="10800"/>
                </a:lnTo>
                <a:close/>
              </a:path>
              <a:path fill="none" w="21600" h="21600">
                <a:moveTo>
                  <a:pt x="21123" y="7627"/>
                </a:moveTo>
                <a:arcTo wR="10800" hR="10800" stAng="-1025270" swAng="6893777"/>
              </a:path>
            </a:pathLst>
          </a:custGeom>
          <a:noFill/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5718240"/>
            <a:ext cx="2361960" cy="736560"/>
          </a:xfrm>
          <a:custGeom>
            <a:avLst/>
            <a:gdLst/>
            <a:ahLst/>
            <a:rect l="l" t="t" r="r" b="b"/>
            <a:pathLst>
              <a:path w="1488" h="464">
                <a:moveTo>
                  <a:pt x="1488" y="192"/>
                </a:moveTo>
                <a:cubicBezTo>
                  <a:pt x="1180" y="328"/>
                  <a:pt x="872" y="464"/>
                  <a:pt x="624" y="432"/>
                </a:cubicBezTo>
                <a:cubicBezTo>
                  <a:pt x="376" y="400"/>
                  <a:pt x="104" y="72"/>
                  <a:pt x="0" y="0"/>
                </a:cubicBezTo>
              </a:path>
            </a:pathLst>
          </a:custGeom>
          <a:noFill/>
          <a:ln w="5724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00200" y="1600200"/>
            <a:ext cx="990720" cy="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62720" y="3889440"/>
            <a:ext cx="1447560" cy="1295280"/>
          </a:xfrm>
          <a:prstGeom prst="line">
            <a:avLst/>
          </a:prstGeom>
          <a:ln w="5724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19320" y="3889440"/>
            <a:ext cx="160020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1008" y="720"/>
                </a:moveTo>
                <a:cubicBezTo>
                  <a:pt x="980" y="584"/>
                  <a:pt x="952" y="448"/>
                  <a:pt x="816" y="384"/>
                </a:cubicBezTo>
                <a:cubicBezTo>
                  <a:pt x="680" y="320"/>
                  <a:pt x="328" y="400"/>
                  <a:pt x="192" y="336"/>
                </a:cubicBezTo>
                <a:cubicBezTo>
                  <a:pt x="56" y="272"/>
                  <a:pt x="32" y="56"/>
                  <a:pt x="0" y="0"/>
                </a:cubicBezTo>
              </a:path>
            </a:pathLst>
          </a:custGeom>
          <a:noFill/>
          <a:ln w="5724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0240" y="2209680"/>
            <a:ext cx="330480" cy="917640"/>
          </a:xfrm>
          <a:custGeom>
            <a:avLst/>
            <a:gdLst/>
            <a:ahLst/>
            <a:rect l="l" t="t" r="r" b="b"/>
            <a:pathLst>
              <a:path w="208" h="1008">
                <a:moveTo>
                  <a:pt x="208" y="1008"/>
                </a:moveTo>
                <a:cubicBezTo>
                  <a:pt x="152" y="924"/>
                  <a:pt x="96" y="840"/>
                  <a:pt x="64" y="720"/>
                </a:cubicBezTo>
                <a:cubicBezTo>
                  <a:pt x="32" y="600"/>
                  <a:pt x="0" y="408"/>
                  <a:pt x="16" y="288"/>
                </a:cubicBezTo>
                <a:cubicBezTo>
                  <a:pt x="32" y="168"/>
                  <a:pt x="136" y="48"/>
                  <a:pt x="160" y="0"/>
                </a:cubicBezTo>
              </a:path>
            </a:pathLst>
          </a:custGeom>
          <a:noFill/>
          <a:ln w="5724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rot="846000">
            <a:off x="2114280" y="0"/>
            <a:ext cx="4647960" cy="2819520"/>
          </a:xfrm>
          <a:prstGeom prst="irregularSeal2">
            <a:avLst/>
          </a:prstGeom>
          <a:solidFill>
            <a:srgbClr val="ff0000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rot="846000">
            <a:off x="2286000" y="2136240"/>
            <a:ext cx="4648320" cy="2819520"/>
          </a:xfrm>
          <a:prstGeom prst="irregularSeal2">
            <a:avLst/>
          </a:prstGeom>
          <a:solidFill>
            <a:srgbClr val="ff0000">
              <a:alpha val="50000"/>
            </a:srgbClr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rot="846000">
            <a:off x="6616800" y="990720"/>
            <a:ext cx="2527200" cy="2819160"/>
          </a:xfrm>
          <a:prstGeom prst="irregularSeal2">
            <a:avLst/>
          </a:prstGeom>
          <a:solidFill>
            <a:srgbClr val="ff0000">
              <a:alpha val="50000"/>
            </a:srgbClr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280440" y="3220200"/>
            <a:ext cx="1496520" cy="803880"/>
            <a:chOff x="280440" y="3220200"/>
            <a:chExt cx="1496520" cy="803880"/>
          </a:xfrm>
        </p:grpSpPr>
        <p:sp>
          <p:nvSpPr>
            <p:cNvPr id="482" name=""/>
            <p:cNvSpPr/>
            <p:nvPr/>
          </p:nvSpPr>
          <p:spPr>
            <a:xfrm flipV="1">
              <a:off x="280440" y="3316320"/>
              <a:ext cx="1496520" cy="611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 flipV="1">
              <a:off x="327240" y="3220200"/>
              <a:ext cx="1402200" cy="80388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28600" y="83808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La comunicazione di impresa verso l’esterno è fondata su tre element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Corporate Identity: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serve a riconoscerla e distinguerla. Sono il nome, i servizi, le attrezzature, l’edif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Corporate Image: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serve ad ottenere il consenso dei “pubblici”, mantenendola sul mercato e rafforzandone le posizioni . Sono il linguaggio, la formulazione dei messaggi, la trasmissione dei messaggi. Deve rappresentare il “credo” aziend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5000" indent="-30780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Commercial: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comunicazione commerciale per informare i clienti e promuovere le vend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920" y="838080"/>
            <a:ext cx="861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Nell’ambito delle </a:t>
            </a: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imprese fornitrici di servizi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, la comunicazione commerciale ha come elemento particolare di essere destinata a inviare </a:t>
            </a: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messaggi su prodotti intangibili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Non può quindi fare leva su caratteristiche materiali e deve perciò fondare il messaggio sul richiamo d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7320" indent="-2732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sensazion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7320" indent="-2732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emozioni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7320" indent="-27324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Times New Roman"/>
              </a:rPr>
              <a:t>stili di vi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04920" y="838080"/>
            <a:ext cx="861048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Elementi e tecniche della comunicazione nel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li elementi del marketing mix della  comunicazione so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4080" indent="-285840" algn="just">
              <a:lnSpc>
                <a:spcPct val="100000"/>
              </a:lnSpc>
              <a:buClr>
                <a:srgbClr val="ffff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ubblicità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estinata a fare conoscere il prodotto al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4080" indent="-285840" algn="just">
              <a:lnSpc>
                <a:spcPct val="100000"/>
              </a:lnSpc>
              <a:buClr>
                <a:srgbClr val="ffff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romozione alle vendite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estinata ad attirare il cliente verso il prodo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4080" indent="-285840" algn="just">
              <a:lnSpc>
                <a:spcPct val="100000"/>
              </a:lnSpc>
              <a:buClr>
                <a:srgbClr val="ffff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personale alla vendita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elemento fondamentale nella comunicazione di un prodotto intang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54080" indent="-285840">
              <a:lnSpc>
                <a:spcPct val="100000"/>
              </a:lnSpc>
              <a:buClr>
                <a:srgbClr val="ffff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relazioni pubbliche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estinate a rafforzare l’immagine aziendale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52280" y="1219320"/>
            <a:ext cx="8991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l processo di acquisto di un bene o un servizio, passa attraverso quattro fasi disti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7320" indent="-412920" algn="just">
              <a:lnSpc>
                <a:spcPct val="100000"/>
              </a:lnSpc>
              <a:buClr>
                <a:srgbClr val="ffff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cognitiva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resa di coscienza di un biso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7320" indent="-412920" algn="just">
              <a:lnSpc>
                <a:spcPct val="100000"/>
              </a:lnSpc>
              <a:buClr>
                <a:srgbClr val="ffff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interesse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formazioni sulle modalità di soddisfazione del biso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7320" indent="-412920" algn="just">
              <a:lnSpc>
                <a:spcPct val="100000"/>
              </a:lnSpc>
              <a:buClr>
                <a:srgbClr val="ffff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valutazione acquisto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formazione su beni e servizi destinati alla soddisfazione del biso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7320" indent="-412920">
              <a:lnSpc>
                <a:spcPct val="100000"/>
              </a:lnSpc>
              <a:buClr>
                <a:srgbClr val="ffff66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scelta vera e propria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omento dell’acqui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52280" y="1219320"/>
            <a:ext cx="8991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imes New Roman"/>
              </a:rPr>
              <a:t>Una efficace campagna di comunicazione deve prevedere le seguenti fa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7320" indent="-41292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dentificazione del 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7320" indent="-41292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dentificazione del mez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7320" indent="-41292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struzione del messagg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7320" indent="-41292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lizzazione della campag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27320" indent="-41292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erifica dei risul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52280" y="1270080"/>
            <a:ext cx="320040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676520" y="2870280"/>
            <a:ext cx="28954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RU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05520" y="1295280"/>
            <a:ext cx="450720" cy="31244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72200" y="1295280"/>
            <a:ext cx="2971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IX DEL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Quali mezzi e in quale mis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28800" y="1600200"/>
            <a:ext cx="1143000" cy="114300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0" y="0"/>
                </a:moveTo>
                <a:cubicBezTo>
                  <a:pt x="12" y="156"/>
                  <a:pt x="24" y="312"/>
                  <a:pt x="144" y="432"/>
                </a:cubicBezTo>
                <a:cubicBezTo>
                  <a:pt x="264" y="552"/>
                  <a:pt x="492" y="636"/>
                  <a:pt x="720" y="72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505320" y="2895480"/>
            <a:ext cx="1523880" cy="838440"/>
          </a:xfrm>
          <a:custGeom>
            <a:avLst/>
            <a:gdLst/>
            <a:ahLst/>
            <a:rect l="l" t="t" r="r" b="b"/>
            <a:pathLst>
              <a:path w="960" h="528">
                <a:moveTo>
                  <a:pt x="0" y="288"/>
                </a:moveTo>
                <a:cubicBezTo>
                  <a:pt x="16" y="408"/>
                  <a:pt x="32" y="528"/>
                  <a:pt x="192" y="480"/>
                </a:cubicBezTo>
                <a:cubicBezTo>
                  <a:pt x="352" y="432"/>
                  <a:pt x="656" y="216"/>
                  <a:pt x="960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rot="11833200">
            <a:off x="5893920" y="535680"/>
            <a:ext cx="1676520" cy="838440"/>
          </a:xfrm>
          <a:custGeom>
            <a:avLst/>
            <a:gdLst/>
            <a:ahLst/>
            <a:rect l="l" t="t" r="r" b="b"/>
            <a:pathLst>
              <a:path w="1056" h="648">
                <a:moveTo>
                  <a:pt x="0" y="240"/>
                </a:moveTo>
                <a:cubicBezTo>
                  <a:pt x="64" y="376"/>
                  <a:pt x="128" y="512"/>
                  <a:pt x="240" y="576"/>
                </a:cubicBezTo>
                <a:cubicBezTo>
                  <a:pt x="352" y="640"/>
                  <a:pt x="552" y="648"/>
                  <a:pt x="672" y="624"/>
                </a:cubicBezTo>
                <a:cubicBezTo>
                  <a:pt x="792" y="600"/>
                  <a:pt x="896" y="536"/>
                  <a:pt x="960" y="432"/>
                </a:cubicBezTo>
                <a:cubicBezTo>
                  <a:pt x="1024" y="328"/>
                  <a:pt x="1040" y="164"/>
                  <a:pt x="1056" y="0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09480" y="4495680"/>
            <a:ext cx="8458200" cy="1981440"/>
            <a:chOff x="609480" y="4495680"/>
            <a:chExt cx="8458200" cy="1981440"/>
          </a:xfrm>
        </p:grpSpPr>
        <p:sp>
          <p:nvSpPr>
            <p:cNvPr id="503" name=""/>
            <p:cNvSpPr/>
            <p:nvPr/>
          </p:nvSpPr>
          <p:spPr>
            <a:xfrm>
              <a:off x="609480" y="5638680"/>
              <a:ext cx="358164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gnuno ha costi, benefici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effetti diver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19920" y="5562720"/>
              <a:ext cx="30477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Perseguono insieme gli stessi risulta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257800" y="4495680"/>
              <a:ext cx="0" cy="13716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43400" y="5867280"/>
              <a:ext cx="1523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228600" y="838080"/>
            <a:ext cx="8915400" cy="56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Il target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l target della comunicazione è il pubblico obiettivo del nostro messaggio. Possiamo rivolgerci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393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tenziali clienti: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coloro sui quali abbiamo “tarato” il prodotto a seguito di una ricerca, del quale conosciamo le caratteristiche socio demografiche, le modalità di uso del prodotto, le modalità di acquisto del prodo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393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cisori di acquisto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: coloro che nell’ambito del gruppo potenziale cliente, decidono effettivamente un acqui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393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intermediari: venditori che possono influenzare il cliente in fase di acqui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39384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ffffff"/>
                </a:solidFill>
                <a:uFillTx/>
                <a:latin typeface="Times New Roman"/>
              </a:rPr>
              <a:t>opinion leaders:</a:t>
            </a: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 che possono influenzare le modalità di acquisto di un intero gru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Times New Roman"/>
              </a:rPr>
              <a:t>Le leve del Marketing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la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838080"/>
            <a:ext cx="891540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66"/>
                </a:solidFill>
                <a:latin typeface="Times New Roman"/>
              </a:rPr>
              <a:t>La pubblic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La pubblicità consiste in quelle azioni destinate all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393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trasmissione di messaggi senza contatto pers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393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attraverso canali di massa (raggiungono un vasto numero di pers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393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di un media pagato (anche i redazionali se a pag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Gli obiettivi della pubblicità possono ess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393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corporate advertising: trasmissione di una immagine favorevole della i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393840" algn="just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product advertising: fare conoscere un prodo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1040" indent="-393840">
              <a:lnSpc>
                <a:spcPct val="100000"/>
              </a:lnSpc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brand advertising: fare conoscere una linea di prodo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17:06:44Z</dcterms:created>
  <dc:creator>Sandro</dc:creator>
  <dc:description/>
  <dc:language>en-US</dc:language>
  <cp:lastModifiedBy>Sandro</cp:lastModifiedBy>
  <dcterms:modified xsi:type="dcterms:W3CDTF">2003-01-29T12:30:09Z</dcterms:modified>
  <cp:revision>122</cp:revision>
  <dc:subject/>
  <dc:title>Nessun titolo diapositiva</dc:title>
</cp:coreProperties>
</file>